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D3D-E4A2-4C38-9D9B-81F6CE0F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52D-2C15-422F-846C-4A9F2FE9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CFCBC-452E-4739-8A79-A051DF6B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76036-D904-4E26-AD15-63DF955B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86C90-46D9-4F34-BD88-D586A276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C3A53-22C5-49C2-A7F5-74783CC5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6E393-FB55-4228-8C51-7D6526D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6034D-C198-41E5-960C-2A1002CE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46379-C8DE-4B54-BC24-0AA3EB0A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DA7BF-44C6-455A-971E-A26980E2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FEC11-C7FB-4E23-BC69-298FC297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F04689-98A8-404B-8559-29903B19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A51-1B43-41A2-BEB7-CCF283E3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14C262-F46D-4833-9E97-A6777974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BF3259-8E6B-48C7-9E13-197F3CDE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D05A93-F27B-4FE9-A4A0-EB9F9182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1C8F9D-1A76-459E-91F0-49984675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E40619-9A12-4CD1-BF9D-E24DEFDB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7371E5-4842-4D68-8DBF-3D8D9B9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B42B24-62E5-47E2-9D41-5609A091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4D1BA3-9D91-4668-9B98-D568554C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6FA430-BAE5-4FF1-B717-413E160A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2758A7-ED0B-46D2-8883-59770429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478-8ABC-4D4A-8ECF-45C90CBA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E5A0E3-49FD-41A2-AE38-F5D3DF8D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B15C6-D67B-42B9-B03E-4D1D78B5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D2BE1-B753-447B-BDD1-E99011B5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743F4-B0FD-45BC-B138-A4F64551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F274D-ABF8-4B76-9B4B-D3EAFB3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A3254-8432-4C57-81E0-72D8AD66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0681F-4626-4674-B316-D648E78C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28EE3-C47D-453A-9E48-F0363B9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03144-8050-449D-87DF-7D00D115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BA908-E9F0-4B94-9DB8-ABB6833D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E889-D2F9-4F97-979C-BF315C83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A6B4-0AC5-4862-9EF3-4A0F4B3A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6E79-4A03-4B99-88F6-87CAC2B1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408B1-1033-4978-8B6A-2F99F423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38E60-CF74-4DE0-963C-469F5E52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7552B-A36A-40A9-ADCE-FB493E18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28971-F93A-476D-802C-16365BF3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9ABD3-9366-4D90-9A4D-05D19968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93448-D7F4-46FE-B130-C38B9DCF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CECD2-4BDC-45FE-9D4C-AC30287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89451-FE0A-4043-ACC9-71B0E6FE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14D7-197A-440B-A132-8ADC88D3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EB1D1-B087-4ABD-A02F-A790D52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95DBE-9082-4D74-91F4-467CE374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06462-DBC8-40D3-9DDD-E741112C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86556-03ED-4916-B452-6EE27936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4CABF-1DB9-4F43-AC01-5043C645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D86D-7665-44FC-A3D5-9DBB00B4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3C93-ADB1-4AE8-8D76-435DB38B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9249-357C-4755-8AAB-F4DDB992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26A1-ED4A-438D-A15B-2931F572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5856-0504-4462-B8B9-D35FEE7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15D-8AAC-41FB-AACE-3B574D5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46D7-692D-4520-B3DF-C54209F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867E-A779-4229-999F-9AE55DC4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D171-79FC-45B2-9F6B-05AAC8D5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C66A-C668-465A-A52B-16A0B55B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FF3F-D807-466D-ADD7-DD80D963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4194-3659-4230-AC5C-9E2A2AD2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2181-A0FD-4C2C-9EFF-9455B58B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4297-7661-4A5C-AB68-7352B90F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4CC7-BFD5-488B-9725-AC21768E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1A31-ADF4-47D6-A7BB-088EBF63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222-1263-4DD9-AD06-341AD675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6B3A-3D73-4954-9E17-060490C9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917D-45FF-4901-85CB-9266242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58FC-A144-4CBA-943D-1FB01E5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1CCE-4803-4A71-BCAA-C91C53AF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3D19-8057-45ED-AC56-EAAFE44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8189-AF50-4349-B5E8-53AA3CD0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65E1-1256-41CA-9D6A-897F66D0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9FC5D-4804-4BC8-931C-65EFB46C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53094-C610-4BC6-8EB2-26E213E3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067E1-FFA8-45FC-904E-C89658D3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2E9-8EEB-4923-8D2A-70812AF6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419D7-230A-488A-87A2-A84B549D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C91A8-0DDB-431E-BAC8-D9176E4A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44AA3-810C-4BD9-93E2-6F40E362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3B084-A08B-434D-B93A-5E99221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CBAF0-D632-491D-913D-FBD9A49F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DB977-37B9-4E0D-9E24-75852435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FC3AA-671D-4D9F-A6A3-443E3E0C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AF927-ACFB-4B1A-8A93-18576842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DECFB-1D7D-4424-BF47-516AF91F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7F4BA-13C4-498F-AA76-7AD249A1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C69-AC11-4D35-A610-B9DB91F8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7860C-9A75-4CF7-96FE-035F992A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5857C-97FA-458F-9477-455C6E4D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A5DFC-8A28-41AB-86DC-1FA51667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FCACD-0472-43E1-96ED-C8F151B3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1D36B-2ECA-40AC-985E-E1AF540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EB338-A118-4563-97DD-6CE77B82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91EE7-CA0E-472C-A0DA-818D3E4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2263B-862D-41B5-A160-4B24C55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5F66B-F244-4685-96B0-3883B62B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62CFF-E21E-4024-9C10-4223FEEF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167-E3F1-49E2-9786-B0145660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6D2D7-BF52-4B6F-B314-05F8F145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671C3-FF52-4C70-B762-7DF9D6CE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5FD73-6E2B-423C-A977-CDABC52F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C22BD-45B1-4317-8B52-64B48400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3B39E-4EE2-4EE6-9140-31D4A1D7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98F60-005A-4F56-9A70-4C10E9B8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89A09-3D9E-4D34-8DC4-A394DF89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510A8-1933-4E17-9AE1-28C51165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15CC1-2183-4C44-B541-8526EA2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27721-0FCF-4CE5-846C-078EA047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EF7-4483-47ED-95E1-7AB62C79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B1EC1-DEEF-42C6-82FC-A8F7136E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192F9-50D0-438E-B804-44D6F18C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D3FFD-A5E0-4FE0-B9FF-8C49A4BE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1E9FB-38F6-4134-B82D-6643EB7F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C6007-9DB5-404B-90CC-753D3119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87858-E4AD-4C7E-BA80-BD255D75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EDF75-BBB2-4DC1-BE08-2DBA03DB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05F96-147F-405E-AD82-C3AE6DB0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88D71-FEA4-4994-8B95-8D20C028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C9529-3190-4B10-AC00-C6C1762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AAC-106E-41E1-832E-7B436227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42BC1-136A-4D19-9A22-6C24ABA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95585-0787-4759-BA5D-F8266B0E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E515-6866-4E59-829F-93485D05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FC5C1-C804-498E-BA54-E47A809B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DB466-5618-4723-BA73-1DD9145F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F6F8-7415-4695-B942-23692C5F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26DF-AF4E-4790-84CA-FAC7AACA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07BE2-EB36-4874-9929-93E8DC90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81FF8-4A22-4EFE-9A26-8738CD7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EB682-E534-4EE3-AFD7-3A5877E9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B2F-75C9-4084-BF0B-D26CD719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3818E-CEBD-4415-BB23-7B9E603A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9777-760A-4AAC-8818-0CE30047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6666B-E8CB-4023-A258-EC44164C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33DB-901D-4AEF-9C31-C226868C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C00B-C8BB-4C5E-9B50-987B90CA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52F53-5234-4302-BBB2-DE259194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3930F-A852-4215-B514-36CB4741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A36FB-A9C6-4667-9BE7-E83035AE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64C23-DC85-4A16-8543-E76F069E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56BAD-76C1-47D3-9033-8FBD29D2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5E4E-5C5F-4E88-9DDB-451219E696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B5C-9597-47FE-BEB0-9D0A1BF8DBF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BBB6-1B06-4702-A310-74AEC265B4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B381-7ACA-4412-800F-23F2A761E9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7C67-674A-471A-8C06-4E314BC72B66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1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5D460C09-1927-4454-A140-887BECCA0BB1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14:4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219-67C8-4EE6-92D3-4A7921F4B3AA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1C00-4734-4236-AE2B-3A8B3E6661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C694-220A-4A67-8558-0551FD3854D2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F46BBFF6-B4F6-44A2-A36C-56E878557106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4:4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9615-2D2A-4957-8558-961156AABB25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5FDB-B12F-4360-AB9D-242BB4737C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8718-2EE2-40E2-BA91-A4EC414548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E469-476A-40DE-A0EC-5B214FAED2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FF88-3DB2-4FD2-AC57-84A01A83E0E1}" type="slidenum">
              <a:rPr b="1" lang="en-US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009dd9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8F32-ED1F-41FA-8453-1387FA6821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Primernie_rabochie_progra.htm" TargetMode="External"/><Relationship Id="rId3" Type="http://schemas.openxmlformats.org/officeDocument/2006/relationships/hyperlink" Target="https://edsoo.ru/Primernie_rabochie_progra.htm" TargetMode="External"/><Relationship Id="rId4" Type="http://schemas.openxmlformats.org/officeDocument/2006/relationships/hyperlink" Target="https://edsoo.ru/Primernie_rabochie_progra.htm" TargetMode="External"/><Relationship Id="rId5" Type="http://schemas.openxmlformats.org/officeDocument/2006/relationships/hyperlink" Target="https://fgosreestr.ru/" TargetMode="External"/><Relationship Id="rId6" Type="http://schemas.openxmlformats.org/officeDocument/2006/relationships/hyperlink" Target="https://fgosreestr.ru/" TargetMode="External"/><Relationship Id="rId7" Type="http://schemas.openxmlformats.org/officeDocument/2006/relationships/hyperlink" Target="https://edsoo.ru/constructor/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одзаголовок 10"/>
          <p:cNvSpPr/>
          <p:nvPr/>
        </p:nvSpPr>
        <p:spPr>
          <a:xfrm>
            <a:off x="0" y="213372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ОРГАНИЗАЦИЯ СОПРОВОЖДЕНИЯ УЧИТЕЛЕЙ В ПРОЦЕССЕ РЕАЛИЗАЦИИ ОБНОВЛЕННЫХ ФГОС НАЧАЛЬНОГО ОБЩЕГО ОБРАЗОВАНИЯ И               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Прямоугольник 16"/>
          <p:cNvSpPr/>
          <p:nvPr/>
        </p:nvSpPr>
        <p:spPr>
          <a:xfrm>
            <a:off x="4249800" y="634536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202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1619280" y="5445000"/>
            <a:ext cx="640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Сапегина Светлана Юрьевна                                                  ведущий специалист Управление образования Администрации Талиц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6" name="Picture 2" descr="C:\Users\MalenkovaEV.EDU1\Desktop\Картинки\flag_rossiya_simvolika_lenty_trikolor_99276_2560x1600.jpg"/>
          <p:cNvPicPr/>
          <p:nvPr/>
        </p:nvPicPr>
        <p:blipFill>
          <a:blip r:embed="rId1"/>
          <a:stretch/>
        </p:blipFill>
        <p:spPr>
          <a:xfrm>
            <a:off x="109440" y="262080"/>
            <a:ext cx="3492720" cy="161604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80964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Рисунок 5" descr=""/>
          <p:cNvPicPr/>
          <p:nvPr/>
        </p:nvPicPr>
        <p:blipFill>
          <a:blip r:embed="rId1"/>
          <a:stretch/>
        </p:blipFill>
        <p:spPr>
          <a:xfrm>
            <a:off x="252360" y="44280"/>
            <a:ext cx="720720" cy="10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507080" cy="11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5964"/>
                </a:solidFill>
                <a:latin typeface="Calibri"/>
              </a:rPr>
              <a:t>ПОЗДРАВЛЯЕМ ВАС С НАЧАЛОМ НОВОГО УЧЕБНОГО ГОД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76000" y="104760"/>
            <a:ext cx="728964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рганизационно-подготовительные мероприят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курсовой подготовки по внедрению обновленных ФГОС НОО и ФГОС ООО для педагогических работни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ование цикла мероприятий ( практических групповых занятий, индивидуальных консультаций и др.) по работе с порталом Единое содержание общего образования (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для информирования педагогов о нормативных документах и освоении конструктора рабочих программ с целью подготовки рабочих програм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педагогов, реализующих обновленные ФГОС НОО и ФГОС ООО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молодых педагогов, которым предстоит начать работу по обновленным ФГОС НОО и ФГОС ООО с 01.09.2022 год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формационн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зменениях норматив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курсах повышения квалификации по вопросам реализации ФГОС НОО и ФГОС ООО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возможности получить консультативную поддержку на федеральном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организации внедрения обновленных ФГОС НОО и ФГОС ОО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постоянно действующих семинаров (в том числе в дистанционном режиме) по вопросам введения обновленных ФГОС НОО и ФГОС ОО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региональных, муниципальных научно-практических конференций, педагогических чтений, вебинаров по проблемам введения обновленных ФГОС НОО и ФГОС О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мероприятий (вебинары, практические групповые занятия, индивидуальные консультации и др.) по работе с порталом Единое содержание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с целью поддержки педагогов, которые испытывают затруднения по освоению конструктора рабочих програм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и анализ уроков учителей, работающих по обновленным ФГОС НОО и ФГОС ООО с целью оказания методической поддержки и определения профессиональных затрудн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взаимопосещения уроков учителями, работающими по обновленным ФГОС НОО и ФГОС ООО, в рамках одного методического направления и между различными методическими направл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в формировании и развитии системы наставничества для оказания помощи и профессионального роста молодых педагогов, работающих по обновленным ФГОС НОО и ФГОС ООО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Ы ДЛЯ ОБСУЖ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оценочной деятельности в образовательной организации в связи с внедрением обновленных ФГОС НОО и ФНОС ООО. Развитие внутренней системы оценки качества образования (ВСОКО)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требований к предметным результатам в рамках реализации обновленных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спользование электронных средств обучения и дистанционных технологий для повышения качества образовательной деятельности в рамках внедрения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тодический инструментарий учителя-предметника: подборка методических материалов, электронных ресурсов и нормативных документов для организации образовательной деятельности по обновленным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требования ФГОС НОО и ФГОС СОО к психолого-педагогическому сопровождению образовательной деятельности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формы занятий внеурочной деятельности в рамках внедрения ФГОС НОО и ФГОС ООО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готовности учителей к началу внедрения обновленных ФГОС НОО и ФГОС ООО: подготовка рабочих программ, оценочных материалов и др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образовательной деятельности в контексте внедрения обновленных ФГОС НОО и ФГОС ООО. Выявление профессиональных затруднений (дефицитов) в подготовке и проведении уро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тировка направлений и форм методического сопровождения учителей на основе результатов мониторинг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рабочих программ учебных предме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планов-конспектов (технологических карт) уроков (внеурочных занятий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классных журнал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ные рабочие программы по предметам обязательной части учебного плана доступны педагогам посредством портала Единого содержания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edsoo.ru/Primernie_rabochie_progra.h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а также реестра примерных основных общеобразовательных программ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https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fgosreestr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ртале Единого содержания общего образования действует конструктор рабочих программ – удобный бесплатный онлайн-сервис для индивидуализации примерных рабочих программ по учебным предметам: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https://edsoo.ru/constructo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мощь учителю разработаны и размещены в свободном доступе методические видеоуроки для педагогов, разработанные в соответствии с обновленными ФГОС начального и основного общего образования: https://edsoo.ru/Metodicheskie_videouroki.htm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ы в свободном доступе учебные пособия, посвященные актуальным вопросам обновления предметного содержания по основным предметным областям ФГОС НОО и ООО: https://edsoo.ru/Metodicheskie_posobiya_i_v.htm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ую консультативную помощь по вопросам реализации обновленных ФГОС НОО и ООО учитель и руководитель образовательной организации может получить, обратившись к ресурсу «Единое содержание общего образования» по ссылке: https://edsoo.ru/Goryachaya_liniya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совет66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s://pedsovet66.irro.ru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дел «Обновленные ФГОС» размещены ответы на вопросы слушателей ДПП «Реализация требований обновленных ФГОС НОО, ФГОС ООО в работе учителя»,  «горячая линия» для консультаций педагогов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15:55:46Z</dcterms:created>
  <dc:creator>mm1</dc:creator>
  <dc:description/>
  <dc:language>en-US</dc:language>
  <cp:lastModifiedBy>User</cp:lastModifiedBy>
  <dcterms:modified xsi:type="dcterms:W3CDTF">2022-08-27T07:31:17Z</dcterms:modified>
  <cp:revision>539</cp:revision>
  <dc:subject/>
  <dc:title>Презентация PowerPoint</dc:title>
</cp:coreProperties>
</file>