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D1A-FA0D-4761-B9BC-7E7A682F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0A6-E9ED-4FD1-AB7B-156225F2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4AF45-D13C-41D2-9179-1133C7FA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FE166-F4A7-4194-BC65-139EB342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21828-542B-4197-9DCB-2B6A50F4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D6804-6AE7-4201-8F11-4D124D49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C0747-AA6F-41B1-BD10-828CAFB2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5D35F-0F61-48A8-8BDD-1A2B57C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4F291-2500-4141-AA83-25F2CFC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50BF5-FB20-4F4E-BE04-0B8FF277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64363-F403-4AFD-9B9C-C2C4A872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45CE9A-841E-4320-8459-A9B0CF64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3E1-B984-476E-8239-BAC249D5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D01C84-5C7A-4A9B-85E9-EAEF0ED5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35A42A-5251-4EE7-8BAA-942BC9AC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26B130-B2A9-42E4-8058-36FE7AC7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5CD4B5-A077-462B-9AD5-3CA2B4FD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0ECA7-6D0D-4B40-8CFC-77A61B9B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CC0976-612F-48D0-9604-E57305C2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93813A-7072-470D-8266-CF8AD2EB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DA3747-BAA9-4DAF-9EF7-E6FB9B10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D2E856-0D20-47DD-AAFC-B9F02EB2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37BDCF-7D4C-45EC-BEBF-40AD1CFE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640-0371-42FE-A746-8EC41B42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A5B43F-EBCD-4481-B8A9-D8517D5B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6FF7C-2AC2-4DFA-BC1D-8608609C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2AA6C-38C0-4506-B617-A32772BC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DF8CB-F449-4D51-AADF-D4CA0744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5C1CC-5A44-4AAE-86A6-5157ABBE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CE915-7656-48A5-A21C-4A14B354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B0F73-A4A3-44DC-A7CB-BD1467CD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5CB89-8286-418B-ABE9-11E801E3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9B646-4E46-4754-8BAE-59FC901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F075C-E4F5-4212-97D2-3A13256A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0F30-3F7A-4474-BCA0-BD9EBEDE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CBB32-2EF5-4DB0-B2A9-532968F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890B5-03FE-4391-A5A6-09568937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DE267-F52A-47D2-82AF-0681BD29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F08E3-0206-4BE3-BFFE-1DDB8BA1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EE6E0-0E3B-4764-BD4E-0E807DF9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7F6FB-815D-46E3-A7B9-64078A30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8E953-0E54-4ADF-A9A9-526BF1E5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6A75C-3EA7-4CCB-84BF-3FE2549D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29ED5-BFA3-401C-8BA6-F63B4934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46F74-F22C-4586-AB62-ECCEE20C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3EC3-C6BD-48DC-8A0A-0A5E507B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5E07E-B30B-4DD7-A855-6E64B87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C3D1E-D51B-43DE-A8FF-0D71AFB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F2174-D922-40FB-BE34-BA825E1A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FE164-2FE0-4CD0-A46B-530C8DF8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904EF-97C0-45B4-8A5A-CE6439C8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96BD-8BA3-4936-B5E1-AA6F1F83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3136-C188-4138-888C-97BAF845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0A22-6B02-47B8-8894-3DFA9D4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8090-A55C-4FA7-B432-023CD8F4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8EA9-DD68-42E1-BBC3-F5A01E03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746-4853-45EF-BBCE-88A1AED0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558D-342E-4362-A384-AE9D557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EE5D-585A-4440-BD99-CB67286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8E02-AD28-4B8C-A510-A5A993D6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C093-9CE3-44B9-82F7-32CC3F83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CFE7-88FB-481C-9440-85453023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F593-0C3F-456C-B950-8D65D51E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7BFE-4726-4EAB-9329-159C6B69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05B9-8C38-4A80-BDB8-168CC1F0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0AC6-F02D-4437-95FE-13CEC1F9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1DB7-D266-41F7-A276-1AFEE1B8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DB9-57E0-4D95-A7AB-5A9360E8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C889-8ED1-4072-9DC1-A3E09EDD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0BE1-EE9D-4F06-B9FE-DBB975AA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45D7-4D03-4540-8050-C76412A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E95A-C5FF-4AB7-B695-9D57FD13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8C16-BD88-4FCE-92D9-B8A3015E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0291-7862-481C-A709-5827214A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0111-1852-43D3-B577-16FD1704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1FEA1-0277-4ED0-A4C3-BA44A927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323AF-679B-47BC-B033-9F8B86F0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0AAC2-76C5-4D42-9F26-2113F2C6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ED8-86E7-4069-9954-C293F3EA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99EB0-C5F5-489C-86C1-3053BF73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F9EBA-350A-4C08-9CEA-11E5BA7B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C8938-3054-421F-9471-92BCCB4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C77BB-2CB5-42BE-841B-0330638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85D1B-90A6-41FF-8C15-30BF8E2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2B6EA-F5E4-45BB-BA2A-AE0C0E3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103B6-D924-46D5-AC49-EBC87315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BEDF9-8AFE-4A81-A3E3-31C254C7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A6DB0-0BE1-4998-AD3A-7D7FEF3B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BF02E-8076-467B-8138-5DC77A84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E1E-01DB-4856-AC19-2E326893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B7536-EB5F-42F0-A8E0-A0F11014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18221-41B9-4A93-8886-9064DF19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DDD39-DF99-42DC-8B0E-1FAD914B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582F3-43C7-4B6B-9213-E10C6797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49E37-BEE4-4EE7-9901-35D0A1D9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ECEFB-3D1B-4B75-BBD9-FDABE1AB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4867E-AAF4-48B2-A723-5F832A30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8E643-49B4-40AF-9648-B58839B3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E35AE-CFA3-41F2-B07F-10C91D85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0FC73-CCB3-4A88-9867-332093D0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426-7E18-41EB-81C2-3C75CD02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95596-3B29-49BF-B238-C1AAB49B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8F009-CAE5-4AE3-B0A8-FD3C2D34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101D1-72CC-4677-AF02-6187683A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4F826-531A-4BF7-A46F-D6A2ACA4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B7C8E-4376-4954-9F83-A7054232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B1299-E146-4336-A1F6-E71B67E7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D3F81-512F-4236-A4CE-E45C3C85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92D1C-4F97-42F1-93EA-2C2FF55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C875A-0EDD-4F36-8629-6051C981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CF360-69B9-42D7-93B6-7CC70B3E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F3F-8643-43B3-8EFE-24D52430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1FE8C-106A-4872-AEBA-B908D45F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5151B-1E55-4FC2-A632-47AB5251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86E52-4191-4830-BCB9-246EECA4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A41B2-C749-4AD7-8F17-2BA3AA9B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E8D31-0472-4C04-8238-EDB17DD6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02F3E-F1EB-4E3D-ADF9-8A00C2BA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3450A-B585-4E3F-ACA5-517B2BB9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E1EF8-4BCE-4D9A-BD35-6EDB7BDF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6087C-0FED-41FD-95D5-0B375BBD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818C6-38ED-4B4F-B4DF-BAAC0B6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AC4-8902-4C49-A1A1-203E2C77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41BFF-2704-4E3A-AE2F-76D66EEA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B171F-4BEA-46F0-8764-00132B0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BD901-203E-464A-B0CB-DC7F0E8D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2C8E5-E4F5-4736-B1E2-14C49968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7C023-A9EC-4EA3-AF8E-E5E935DF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145D5-8EE7-404F-9435-31DAAB79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B719D-A03A-453A-97DD-A7DC4F86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634CD-DDD8-4876-8076-2994CDE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8F013-A4C9-4A0E-9CA2-72B9BE8E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F69E6-A611-4984-8093-33B49A6F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1E3-1D50-4C70-A95E-F220D41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186F3-2247-4DFC-AAED-49447B42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9EF36-A92A-43CE-9589-8CAAC041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48A68-173C-4D34-B6F3-09E83713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000DE-8219-48FF-8A5E-6B4AE9E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D2B8-963F-4C70-9D28-C08D5C71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EB6F6-6532-46DA-8A2D-80526442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0E2E7-7249-4E5D-BA09-54833A3A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5D432-E901-4C61-9759-4EAB7B26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776BB-C06D-40BC-BA79-04E602B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AAAAC-2FA4-49BB-B32F-8967730A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2AB6-374D-4977-99D2-2DCDE0B221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C8FB-16DB-4072-B785-39DED19A9F1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BF8-AC2C-444B-974F-D8B1500314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A708-7B7B-43A1-B4F7-AB20EEE680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440-FA01-45E4-AA13-09E36B37FCA9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0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07F1FB5A-2234-43C6-BD21-C657F12CC7E5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09:22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2BA0-E07F-4FAD-A1E4-47674C9725EA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4A34-853C-47C1-BE8B-BFADC6C875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2F89-1276-4974-B18B-154DED70E3EF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197B4D64-F252-4434-8F82-B740DD3F88CB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09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37CD-74A6-4E99-AB30-D8E8214EE2D1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7A65-BEDA-49AC-8B25-EA03F3155A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8695-3837-485A-935F-4B5AEEBF34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69FA-EF39-411B-B3BF-E4E12D3A71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4B16-68D7-4747-81B3-3AC0D3F782FF}" type="slidenum">
              <a:rPr b="1" lang="en-US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009dd9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D139-C0EF-42AE-9D36-5635BBF219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Primernie_rabochie_progra.htm" TargetMode="External"/><Relationship Id="rId3" Type="http://schemas.openxmlformats.org/officeDocument/2006/relationships/hyperlink" Target="https://edsoo.ru/Primernie_rabochie_progra.htm" TargetMode="External"/><Relationship Id="rId4" Type="http://schemas.openxmlformats.org/officeDocument/2006/relationships/hyperlink" Target="https://edsoo.ru/Primernie_rabochie_progra.htm" TargetMode="External"/><Relationship Id="rId5" Type="http://schemas.openxmlformats.org/officeDocument/2006/relationships/hyperlink" Target="https://fgosreestr.ru/" TargetMode="External"/><Relationship Id="rId6" Type="http://schemas.openxmlformats.org/officeDocument/2006/relationships/hyperlink" Target="https://fgosreestr.ru/" TargetMode="External"/><Relationship Id="rId7" Type="http://schemas.openxmlformats.org/officeDocument/2006/relationships/hyperlink" Target="https://edsoo.ru/constructor/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одзаголовок 10"/>
          <p:cNvSpPr/>
          <p:nvPr/>
        </p:nvSpPr>
        <p:spPr>
          <a:xfrm>
            <a:off x="0" y="213372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ОРГАНИЗАЦИЯ СОПРОВОЖДЕНИЯ УЧИТЕЛЕЙ В ПРОЦЕССЕ РЕАЛИЗАЦИИ ОБНОВЛЕННЫХ ФГОС НАЧАЛЬНОГО ОБЩЕГО ОБРАЗОВАНИЯ И               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Прямоугольник 16"/>
          <p:cNvSpPr/>
          <p:nvPr/>
        </p:nvSpPr>
        <p:spPr>
          <a:xfrm>
            <a:off x="4249800" y="634536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202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1619280" y="5445000"/>
            <a:ext cx="640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Сапегина Светлана Юрьевна                                                  ведущий специалист Управление образования Администрации Талиц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6" name="Picture 2" descr="C:\Users\MalenkovaEV.EDU1\Desktop\Картинки\flag_rossiya_simvolika_lenty_trikolor_99276_2560x1600.jpg"/>
          <p:cNvPicPr/>
          <p:nvPr/>
        </p:nvPicPr>
        <p:blipFill>
          <a:blip r:embed="rId1"/>
          <a:stretch/>
        </p:blipFill>
        <p:spPr>
          <a:xfrm>
            <a:off x="109440" y="262080"/>
            <a:ext cx="3492720" cy="161604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80964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Рисунок 5" descr=""/>
          <p:cNvPicPr/>
          <p:nvPr/>
        </p:nvPicPr>
        <p:blipFill>
          <a:blip r:embed="rId1"/>
          <a:stretch/>
        </p:blipFill>
        <p:spPr>
          <a:xfrm>
            <a:off x="252360" y="44280"/>
            <a:ext cx="720720" cy="10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507080" cy="11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5964"/>
                </a:solidFill>
                <a:latin typeface="Calibri"/>
              </a:rPr>
              <a:t>ПОЗДРАВЛЯЕМ ВАС С НАЧАЛОМ НОВОГО УЧЕБНОГО ГОД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76000" y="104760"/>
            <a:ext cx="728964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рганизационно-подготовительные мероприят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курсовой подготовки по внедрению обновленных ФГОС НОО и ФГОС ООО для педагогических работни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ование цикла мероприятий ( практических групповых занятий, индивидуальных консультаций и др.) по работе с порталом Единое содержание общего образования (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для информирования педагогов о нормативных документах и освоении конструктора рабочих программ с целью подготовки рабочих програм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педагогов, реализующих обновленные ФГОС НОО и ФГОС ООО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молодых педагогов, которым предстоит начать работу по обновленным ФГОС НОО и ФГОС ООО с 01.09.2022 год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формационн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зменениях норматив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курсах повышения квалификации по вопросам реализации ФГОС НОО и ФГОС ООО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возможности получить консультативную поддержку на федеральном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организации внедрения обновленных ФГОС НОО и ФГОС ОО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постоянно действующих семинаров (в том числе в дистанционном режиме) по вопросам введения обновленных ФГОС НОО и ФГОС ОО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региональных, муниципальных научно-практических конференций, педагогических чтений, вебинаров по проблемам введения обновленных ФГОС НОО и ФГОС О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мероприятий (вебинары, практические групповые занятия, индивидуальные консультации и др.) по работе с порталом Единое содержание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с целью поддержки педагогов, которые испытывают затруднения по освоению конструктора рабочих програм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и анализ уроков учителей, работающих по обновленным ФГОС НОО и ФГОС ООО с целью оказания методической поддержки и определения профессиональных затрудн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взаимопосещения уроков учителями, работающими по обновленным ФГОС НОО и ФГОС ООО, в рамках одного методического направления и между различными методическими направл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в формировании и развитии системы наставничества для оказания помощи и профессионального роста молодых педагогов, работающих по обновленным ФГОС НОО и ФГОС ООО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Ы ДЛЯ ОБСУЖ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оценочной деятельности в образовательной организации в связи с внедрением обновленных ФГОС НОО и ФНОС ООО. Развитие внутренней системы оценки качества образования (ВСОКО)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требований к предметным результатам в рамках реализации обновленных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спользование электронных средств обучения и дистанционных технологий для повышения качества образовательной деятельности в рамках внедрения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тодический инструментарий учителя-предметника: подборка методических материалов, электронных ресурсов и нормативных документов для организации образовательной деятельности по обновленным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требования ФГОС НОО и ФГОС СОО к психолого-педагогическому сопровождению образовательной деятельности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формы занятий внеурочной деятельности в рамках внедрения ФГОС НОО и ФГОС ООО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готовности учителей к началу внедрения обновленных ФГОС НОО и ФГОС ООО: подготовка рабочих программ, оценочных материалов и др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образовательной деятельности в контексте внедрения обновленных ФГОС НОО и ФГОС ООО. Выявление профессиональных затруднений (дефицитов) в подготовке и проведении уро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тировка направлений и форм методического сопровождения учителей на основе результатов мониторинг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рабочих программ учебных предме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планов-конспектов (технологических карт) уроков (внеурочных занятий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классных журнал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ные рабочие программы по предметам обязательной части учебного плана доступны педагогам посредством портала Единого содержания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edsoo.ru/Primernie_rabochie_progra.h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а также реестра примерных основных общеобразовательных программ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https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fgosreestr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ртале Единого содержания общего образования действует конструктор рабочих программ – удобный бесплатный онлайн-сервис для индивидуализации примерных рабочих программ по учебным предметам: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https://edsoo.ru/constructo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мощь учителю разработаны и размещены в свободном доступе методические видеоуроки для педагогов, разработанные в соответствии с обновленными ФГОС начального и основного общего образования: https://edsoo.ru/Metodicheskie_videouroki.htm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ы в свободном доступе учебные пособия, посвященные актуальным вопросам обновления предметного содержания по основным предметным областям ФГОС НОО и ООО: https://edsoo.ru/Metodicheskie_posobiya_i_v.htm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ую консультативную помощь по вопросам реализации обновленных ФГОС НОО и ООО учитель и руководитель образовательной организации может получить, обратившись к ресурсу «Единое содержание общего образования» по ссылке: https://edsoo.ru/Goryachaya_liniya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совет66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s://pedsovet66.irro.ru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дел «Обновленные ФГОС» размещены ответы на вопросы слушателей ДПП «Реализация требований обновленных ФГОС НОО, ФГОС ООО в работе учителя»,  «горячая линия» для консультаций педагогов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15:55:46Z</dcterms:created>
  <dc:creator>mm1</dc:creator>
  <dc:description/>
  <dc:language>en-US</dc:language>
  <cp:lastModifiedBy>User</cp:lastModifiedBy>
  <dcterms:modified xsi:type="dcterms:W3CDTF">2022-08-27T07:31:17Z</dcterms:modified>
  <cp:revision>539</cp:revision>
  <dc:subject/>
  <dc:title>Презентация PowerPoint</dc:title>
</cp:coreProperties>
</file>