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604D7-2A86-4D4B-B440-6AEED9192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E91DB-6EC0-4D81-AFFE-76C69D6CA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85CF7-4DD8-44EC-843E-2FCE917837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2E736B-A264-493E-9FB7-4A319B67CE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510920-9006-49AD-899E-C792DAF1BA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9A38D5-0DE2-4A0E-AAB2-8AA9E684A8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BF582F-DD0F-46C2-929F-DA88FF63B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3527A2-75F4-45CB-B177-936B30B0AB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A28F64-EFAD-4905-8488-0C3D6F0998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51569A-B4B5-4193-8A40-4AA7C8C4E5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561896-7CFB-4925-A244-B9E5BC855D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0C568926-C30E-4E75-A38C-ABE7A86BFD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419CE-E95A-46BB-B327-298D69F26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EEFAE7A-AF8C-4A25-A905-C6816585AD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0EE6DFB-5818-4DDE-9F82-4E6B049FEB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E250930-3815-46D2-B17B-1AC9F2E0A1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0797C08-D106-404A-B414-5EF976F458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0E68071-B8A2-4B86-A3B0-FAF90089E6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66DD1FE-7F3B-4B77-9B04-0BF103023E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4588C27-9E02-44E0-B5E1-4D35D40061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E6B656F-E046-4A04-BDFB-C6ECCF148D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1636900-0265-41C6-9816-B2ADA5F313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0D3C1986-F412-4A02-95B2-15165F0ABB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94E6C-189B-40B6-9D09-C1B03D4DD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E25504A-D5CD-48AF-BB62-7D65C64F76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D0EE95-10B1-4D73-B4B4-033B83FAB69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A89F26-FBDF-4D8A-A83C-7E1544868F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B45E71-6097-400B-84F2-6FA1BA71AE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BE8409-9FA7-4627-90E1-B1FB68EC76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93435F-854A-462B-B174-0EC3142C0E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D9BD2D-DA71-488E-ACA5-3207999AF6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E031F4-D2F5-49E5-86BA-0300F0F488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405F78-2EBA-4072-92A2-4D9A731BEA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E724CB-0918-4787-932F-F98378EF07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EC69F-523A-4656-8CB9-B08EC3011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CC8F3C-CB55-45AE-B407-9FFEC760FF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922652-09B5-40B2-97F4-65C2009551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9744C3E-DFF9-4231-865E-B6038B4DD3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041E08-2AD1-4E7A-963C-7E367D80A2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14BB40-369B-44A4-BF02-56E98B71D8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F62D2D-4CA3-4653-B80A-93C2EDB888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D925EC-FC33-40D5-848C-96625C033F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F0966E-06DD-403F-BB21-B13E066C7A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5D764E-09F5-44AA-8BA7-277E158654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4ACF08-495C-45A7-AA2B-76218D393C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19186-7A2C-4BD4-9B94-2DAAE9CCB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BD63E9-34CB-4C01-B06F-5EE44A66FE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C284F2-25E6-4853-8E5E-5037EF9797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E8F3C7-F89B-4A66-86BF-F1282E9654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C57157B-3E70-4474-B25F-9E5609DDD4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B0000BD-1169-4498-84F1-247CCB490F0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335DB-8FBC-4CCD-9052-5DC410CD6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A4E87F-5E26-4B31-A569-F8DD9E98E5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F4B79B-AAD2-4498-828F-AE551EAE2F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BA1541-8CF0-4ABA-BD9E-153D002894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26E91-4FE5-4557-8EF1-3CD060139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C260E4-78C4-4CA1-ACB6-9B0A5270DE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03392C-ABDE-4EEF-BE37-9921E3BC08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519D8B-5982-409F-A623-531E2429B5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123741-BDE1-477C-B93E-1DA54A4B8D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F04FFA-916A-4DFE-AD54-E639139E53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D9449E-FC2B-49F6-859B-06E4551F56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7E11E6-484C-4D4B-8624-D1375BFCDD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4B78D3-438D-4933-BAD4-60A8DC1DDB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7B21CB-F7AB-4744-987C-AE62D6A352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78740-3C4C-45B5-AA07-8AA0A7410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F1BB3-A5F0-4A2A-A90C-A45791281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75690-FE10-462D-8E99-4BCA9BBC2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C2003-B575-4BC8-A5D7-18239005C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2EE25-8603-49B1-8D40-070C6423E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DA857-188B-418E-B2DF-3D5FA9D86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130D4-47A5-4272-AD98-2CFE5C249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FA4E4-0CA4-4DE6-9C4C-01FF63CF5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33C72-BA47-492A-BB4E-E0601BD92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5B3063-42CF-4E6B-8F52-12796F70AA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F18E91-8DBB-409B-BBF7-A41426093D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7C419-7A49-4AB2-A80D-E43C98E88B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DE1240-93BC-4173-896C-E96268632C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DE3EA9-3B75-4993-AC9D-B111E91163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38BA3-2473-4AD6-B8A5-85A353578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57454D-7EF2-4C00-BE0D-905AEB37FF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44800-5091-4382-87B2-48D1EB237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E98D9-7554-4817-9984-EBD27B708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B932D-DAE7-48DA-8572-83C5760CC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3EF85-6E82-45C2-8B98-E562F3311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52688E-A0E9-47BF-9EA2-89868DDA08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ADEE0B-0F78-4DF7-AC1E-C181D0AE99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7BA97BE-E542-4AFF-B268-BD646ABFD7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92524F4-A14E-4F9F-B1C5-9D996CAA23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1E847DD-5D39-4162-ADAE-01AFB770E6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F18D9-C47E-47E1-977B-33015051D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8BBC8AB-0E5C-4ECA-8122-075B336239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C014C0C-B9A4-4DEF-B5AE-35FEC08A5A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FF79BFE-6207-42E9-BC6D-655AF6DE7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F27D54-28D2-4ACE-94B7-735897F9E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4557F7-43D2-4AF9-B829-DD84454E4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D7C3E4-51F6-4CA1-B40E-46F546A5B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5DFCA06-8973-497A-8DA4-6DF85FE87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12FA4C4-8796-49D6-BA6B-F81B95979D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58F1169-352D-49A9-A876-528308A291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AA486FD-A446-4E70-82E9-E39B9E22E0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85C00-A5CE-4032-92DF-B902BBE12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8328420-609E-425E-99F7-0AED5ABECB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B68D68-867D-4800-83CA-E4C4527C31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6328CA-6B67-4591-B9CE-678A528384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B1C122-0110-48E8-BEAD-58669B0C8E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D37259-0A8B-43E2-A889-C25413B1E2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70711A-D691-44C4-9F0A-4A61929054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C11FA0-8C03-4D7A-A4B3-9D56DCE701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148C7C-13BE-4C77-807D-80F3244A6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2B8F31D-08CE-45C1-9D02-3D22F1DC5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95D5472-EF46-48B3-92F5-F5A0543F98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6B394-E213-4E39-B41A-A9B15F346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EDD1C7D-A5F3-4ABF-944B-B33AF07FB5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B933F88-B5B1-4AB1-9389-B969CFA9CB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55BD68D-B18C-4811-955D-6287C5758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C819DF4-3E5B-474E-A1B6-87D55A63B2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4677ECE-5833-451C-944C-DA28BA8004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DD36DE9-E5EB-4253-80A5-B4F3970956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D2B4CF0-7813-4CE4-BC95-7A5C25B6B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6A22DAE-C3C6-47D4-98DC-158567AB5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A985F2E-93AF-46E4-8820-D5084C705E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E9DF188-53AA-4BCE-8FA4-6E03561E90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70854-7BED-4E02-B08F-BE979F5DB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B294CEC-1297-4AA5-9607-02EB08476C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926E3C8-EA9F-43DF-A6E3-A3839E76CA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17017C4-A56E-4D6C-9000-79106FF816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3DFAB3-FE01-4007-82C0-36F174B9C8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62D16B-4BC3-43FF-8F9D-AEFA1E692F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548F52-75AD-4AA8-B561-CC6DB010FF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37DC12-BEEF-480E-8506-87FDBD95B9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8263AA-2132-485B-8D59-CBC87CE330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C757D6-AF8D-40F9-B689-1133D4A74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11663C-7307-4731-A232-CF7E7177BF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E504C-84BC-4A1C-A2F2-94C9766B6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9F934-B76F-430C-9984-2C6080EF84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08AF6D-7D0D-4CB2-9447-73E6BCFDD1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4260E6-0110-4747-8559-28AF5B523F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651F32-3B47-4ECB-B528-33D25AD58E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D10408-B6FE-4F1F-BC37-064864DA6C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F16A5E-1F12-4691-ABE8-0481489088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B76E5F-F247-42EF-B730-EF1DDD1EA5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6C593B-7FA8-4202-B758-B6EA26F815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6C4BD3-BA04-4D6A-B707-06473B9E63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9F126F-0AFB-4163-9A57-67BD079461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56BB7-636B-4580-A5CB-DADEDC204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69F6A1-7477-4053-9AFE-A0C34E8E75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69CADA-CC21-4238-B7A5-DBEC7FEFA0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5F5C53-48ED-4209-B93D-7535C91B7D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1DEA80-695D-4A49-9E56-99FD43938D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5FE6EE-B2C9-4459-80BD-2253D5E503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76D768-FCA3-4447-8CBA-B72182874E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0213C3-9B79-4E30-BDB9-8E7404494E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4A88BB-8126-4F70-9EDE-C62150457D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6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BE7FBB-4247-4A09-957D-AD6870701C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23A0A2-E6DD-4925-9C69-F789225F5F2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4EE9-1920-4646-B2BF-E2970FA7394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Rectangle 8"/>
          <p:cNvSpPr/>
          <p:nvPr/>
        </p:nvSpPr>
        <p:spPr>
          <a:xfrm>
            <a:off x="-9360" y="4664160"/>
            <a:ext cx="146340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Rectangle 9"/>
          <p:cNvSpPr/>
          <p:nvPr/>
        </p:nvSpPr>
        <p:spPr>
          <a:xfrm>
            <a:off x="1544760" y="4654440"/>
            <a:ext cx="7599240" cy="7128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12"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13"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0689-ABA7-4DDC-BFE6-C50DB581006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414"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56"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57"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58"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3346-D69D-4F57-B2B7-E0B298099E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8"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9" name="Rectangle 7"/>
          <p:cNvSpPr/>
          <p:nvPr/>
        </p:nvSpPr>
        <p:spPr>
          <a:xfrm>
            <a:off x="6141960" y="609480"/>
            <a:ext cx="228600" cy="62485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0" name="Rectangle 8"/>
          <p:cNvSpPr/>
          <p:nvPr/>
        </p:nvSpPr>
        <p:spPr>
          <a:xfrm>
            <a:off x="6141960" y="0"/>
            <a:ext cx="228600" cy="533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0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03"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504"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05"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A648-EAA5-467D-9041-B76678BDBF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4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88" name="PlaceHolder 3"/>
          <p:cNvSpPr>
            <a:spLocks noGrp="1"/>
          </p:cNvSpPr>
          <p:nvPr>
            <p:ph type="ftr" idx="37"/>
          </p:nvPr>
        </p:nvSpPr>
        <p:spPr>
          <a:xfrm>
            <a:off x="609480" y="6248520"/>
            <a:ext cx="5421600" cy="36504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89" name="PlaceHolder 4"/>
          <p:cNvSpPr>
            <a:spLocks noGrp="1"/>
          </p:cNvSpPr>
          <p:nvPr>
            <p:ph type="dt" idx="38"/>
          </p:nvPr>
        </p:nvSpPr>
        <p:spPr>
          <a:xfrm>
            <a:off x="6095520" y="6248520"/>
            <a:ext cx="2667240" cy="36504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Августовское совещание 2022</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0" y="1271160"/>
            <a:ext cx="533520" cy="244440"/>
          </a:xfrm>
          <a:prstGeom prst="rect">
            <a:avLst/>
          </a:prstGeom>
          <a:noFill/>
          <a:ln w="0">
            <a:noFill/>
          </a:ln>
        </p:spPr>
        <p:txBody>
          <a:bodyPr lIns="0" rIns="0" tIns="0" bIns="0" anchor="ctr">
            <a:noAutofit/>
          </a:bodyPr>
          <a:lstStyle>
            <a:lvl1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Microsoft Sans Serif"/>
                <a:ea typeface="Microsoft Sans Serif"/>
              </a:defRPr>
            </a:lvl1pPr>
          </a:lstStyle>
          <a:p>
            <a: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2EF4-5D99-4968-AD8E-7B2346D2E1DD}"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9"/>
          <p:cNvSpPr/>
          <p:nvPr/>
        </p:nvSpPr>
        <p:spPr>
          <a:xfrm>
            <a:off x="-9360" y="6053040"/>
            <a:ext cx="224928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0"/>
          <p:cNvSpPr/>
          <p:nvPr/>
        </p:nvSpPr>
        <p:spPr>
          <a:xfrm>
            <a:off x="2359080" y="6043680"/>
            <a:ext cx="6784920" cy="7142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29.08.2022, Августовское совещание 2022</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D72E-8D3D-474C-A9CC-ED944CF9E488}" type="slidenum">
              <a:rPr b="1" lang="ru-RU" sz="1400" spc="-1" strike="noStrike">
                <a:solidFill>
                  <a:srgbClr val="4f271c"/>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9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6"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0E5B-6F3C-44AB-BDA3-868ADE0A3B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600200"/>
            <a:ext cx="1295280" cy="9907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1371600" y="1600200"/>
            <a:ext cx="7772400" cy="9907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E2BB-83FC-4A18-AA0C-3F5E22A62A76}" type="slidenum">
              <a:rPr b="1" lang="ru-RU"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B9B4-A0F8-476E-AEF6-6E7DD58D1A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32"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F811-5287-4C59-AD49-FC11343A39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3"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7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75"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5E37-D090-46F2-A38F-EF50F2976A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1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9"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20"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5184-2565-4A78-9704-519173EA6F87}" type="slidenum">
              <a:rPr b="1" lang="en-US" sz="1400" spc="-1" strike="noStrike">
                <a:solidFill>
                  <a:srgbClr val="4f27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9"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61" name="Picture 7" descr="sm_pencil.png"/>
          <p:cNvPicPr/>
          <p:nvPr/>
        </p:nvPicPr>
        <p:blipFill>
          <a:blip r:embed="rId3"/>
          <a:stretch/>
        </p:blipFill>
        <p:spPr>
          <a:xfrm>
            <a:off x="612720" y="1755720"/>
            <a:ext cx="1614600" cy="2144880"/>
          </a:xfrm>
          <a:prstGeom prst="rect">
            <a:avLst/>
          </a:prstGeom>
          <a:ln cap="sq" w="50760">
            <a:solidFill>
              <a:srgbClr val="009dd9"/>
            </a:solidFill>
            <a:miter/>
          </a:ln>
        </p:spPr>
      </p:pic>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6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64"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66"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B538-EF8B-4784-BA4A-3717E875AF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cloud.mail.ru/public/5aWP/F5vD2UPHQ"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От новой рабочей программы</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к современному уроку</a:t>
            </a:r>
            <a:endParaRPr b="0" lang="en-US" sz="3600" spc="-1" strike="noStrike">
              <a:solidFill>
                <a:srgbClr val="000000"/>
              </a:solidFill>
              <a:latin typeface="Tw Cen MT"/>
            </a:endParaRPr>
          </a:p>
        </p:txBody>
      </p:sp>
      <p:sp>
        <p:nvSpPr>
          <p:cNvPr id="628"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29"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0"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Подзаголовок 10"/>
          <p:cNvSpPr/>
          <p:nvPr/>
        </p:nvSpPr>
        <p:spPr>
          <a:xfrm>
            <a:off x="395280" y="2133720"/>
            <a:ext cx="8748720" cy="2087280"/>
          </a:xfrm>
          <a:prstGeom prst="rect">
            <a:avLst/>
          </a:prstGeom>
          <a:noFill/>
          <a:ln w="0">
            <a:noFill/>
          </a:ln>
        </p:spPr>
        <p:style>
          <a:lnRef idx="0"/>
          <a:fillRef idx="0"/>
          <a:effectRef idx="0"/>
          <a:fontRef idx="minor"/>
        </p:style>
        <p:txBody>
          <a:bodyPr lIns="90000" rIns="90000" tIns="46800" bIns="46800" anchor="t">
            <a:no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Современное учебное занятие</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в условиях введения обновленных</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ФГОС НОО, ФГОС ООО</a:t>
            </a:r>
            <a:endParaRPr b="0" lang="en-US" sz="3600" spc="-1" strike="noStrike">
              <a:solidFill>
                <a:srgbClr val="000000"/>
              </a:solidFill>
              <a:latin typeface="Tw Cen MT"/>
            </a:endParaRPr>
          </a:p>
        </p:txBody>
      </p:sp>
      <p:sp>
        <p:nvSpPr>
          <p:cNvPr id="664"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65"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66"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9040" y="248760"/>
            <a:ext cx="6937200" cy="5144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Основные виды учебных занятий</a:t>
            </a:r>
            <a:endParaRPr b="0" lang="en-US" sz="3200" spc="-1" strike="noStrike">
              <a:solidFill>
                <a:srgbClr val="04617b"/>
              </a:solidFill>
              <a:latin typeface="Calibri"/>
            </a:endParaRPr>
          </a:p>
        </p:txBody>
      </p:sp>
      <p:sp>
        <p:nvSpPr>
          <p:cNvPr id="668" name="object 7"/>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D24F-B284-41D1-8720-C6F6F84DB703}"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69" name="object 3"/>
          <p:cNvSpPr/>
          <p:nvPr/>
        </p:nvSpPr>
        <p:spPr>
          <a:xfrm>
            <a:off x="1365120" y="1892160"/>
            <a:ext cx="2916360" cy="1213200"/>
          </a:xfrm>
          <a:prstGeom prst="rect">
            <a:avLst/>
          </a:prstGeom>
          <a:solidFill>
            <a:srgbClr val="006fc0"/>
          </a:solidFill>
          <a:ln w="0">
            <a:noFill/>
          </a:ln>
        </p:spPr>
        <p:style>
          <a:lnRef idx="0"/>
          <a:fillRef idx="0"/>
          <a:effectRef idx="0"/>
          <a:fontRef idx="minor"/>
        </p:style>
        <p:txBody>
          <a:bodyPr lIns="0" rIns="0" tIns="5040" bIns="0" anchor="t">
            <a:spAutoFit/>
          </a:bodyPr>
          <a:p>
            <a:pP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изучения  нового материала</a:t>
            </a:r>
            <a:endParaRPr b="0" lang="en-US" sz="2400" spc="-1" strike="noStrike">
              <a:solidFill>
                <a:srgbClr val="000000"/>
              </a:solidFill>
              <a:latin typeface="Tw Cen MT"/>
            </a:endParaRPr>
          </a:p>
        </p:txBody>
      </p:sp>
      <p:sp>
        <p:nvSpPr>
          <p:cNvPr id="670" name="object 4"/>
          <p:cNvSpPr/>
          <p:nvPr/>
        </p:nvSpPr>
        <p:spPr>
          <a:xfrm>
            <a:off x="4557600" y="1892160"/>
            <a:ext cx="2916360" cy="1356120"/>
          </a:xfrm>
          <a:prstGeom prst="rect">
            <a:avLst/>
          </a:prstGeom>
          <a:solidFill>
            <a:srgbClr val="006fc0"/>
          </a:solidFill>
          <a:ln w="0">
            <a:noFill/>
          </a:ln>
        </p:spPr>
        <p:style>
          <a:lnRef idx="0"/>
          <a:fillRef idx="0"/>
          <a:effectRef idx="0"/>
          <a:fontRef idx="minor"/>
        </p:style>
        <p:txBody>
          <a:bodyPr lIns="0" rIns="0" tIns="1440" bIns="0" anchor="t">
            <a:spAutoFit/>
          </a:bodyPr>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gn="ct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обобщения  и систематизации  изученного</a:t>
            </a:r>
            <a:endParaRPr b="0" lang="en-US" sz="2400" spc="-1" strike="noStrike">
              <a:solidFill>
                <a:srgbClr val="000000"/>
              </a:solidFill>
              <a:latin typeface="Tw Cen MT"/>
            </a:endParaRPr>
          </a:p>
        </p:txBody>
      </p:sp>
      <p:sp>
        <p:nvSpPr>
          <p:cNvPr id="671" name="object 5"/>
          <p:cNvSpPr/>
          <p:nvPr/>
        </p:nvSpPr>
        <p:spPr>
          <a:xfrm>
            <a:off x="136512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Комбинированный  урок</a:t>
            </a:r>
            <a:endParaRPr b="0" lang="en-US" sz="2400" spc="-1" strike="noStrike">
              <a:solidFill>
                <a:srgbClr val="000000"/>
              </a:solidFill>
              <a:latin typeface="Tw Cen MT"/>
            </a:endParaRPr>
          </a:p>
        </p:txBody>
      </p:sp>
      <p:sp>
        <p:nvSpPr>
          <p:cNvPr id="672" name="object 6"/>
          <p:cNvSpPr/>
          <p:nvPr/>
        </p:nvSpPr>
        <p:spPr>
          <a:xfrm>
            <a:off x="455760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проверки и  оценки знаний</a:t>
            </a:r>
            <a:endParaRPr b="0" lang="en-US" sz="2400" spc="-1" strike="noStrike">
              <a:solidFill>
                <a:srgbClr val="000000"/>
              </a:solidFill>
              <a:latin typeface="Tw Cen MT"/>
            </a:endParaRPr>
          </a:p>
        </p:txBody>
      </p:sp>
      <p:sp>
        <p:nvSpPr>
          <p:cNvPr id="673" name="Нижний колонтитул 8"/>
          <p:cNvSpPr/>
          <p:nvPr/>
        </p:nvSpPr>
        <p:spPr>
          <a:xfrm>
            <a:off x="609480" y="6248520"/>
            <a:ext cx="770760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74" name="Номер слайда 9"/>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C440-EDA5-4B79-9BA2-E82B8540C6DD}"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9040" y="270000"/>
            <a:ext cx="6238800" cy="514080"/>
          </a:xfrm>
          <a:prstGeom prst="rect">
            <a:avLst/>
          </a:prstGeom>
          <a:noFill/>
          <a:ln w="0">
            <a:noFill/>
          </a:ln>
        </p:spPr>
        <p:txBody>
          <a:bodyPr lIns="0" rIns="0" tIns="1260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Современное учебное занятие</a:t>
            </a:r>
            <a:endParaRPr b="0" lang="en-US" sz="3200" spc="-1" strike="noStrike">
              <a:solidFill>
                <a:srgbClr val="04617b"/>
              </a:solidFill>
              <a:latin typeface="Calibri"/>
            </a:endParaRPr>
          </a:p>
        </p:txBody>
      </p:sp>
      <p:sp>
        <p:nvSpPr>
          <p:cNvPr id="676" name="object 10"/>
          <p:cNvSpPr/>
          <p:nvPr/>
        </p:nvSpPr>
        <p:spPr>
          <a:xfrm>
            <a:off x="0" y="3722760"/>
            <a:ext cx="539640" cy="3124080"/>
          </a:xfrm>
          <a:custGeom>
            <a:avLst/>
            <a:gdLst/>
            <a:ahLst/>
            <a:rect l="l" t="t" r="r" b="b"/>
            <a:pathLst>
              <a:path w="460375" h="3124200">
                <a:moveTo>
                  <a:pt x="460248" y="0"/>
                </a:moveTo>
                <a:lnTo>
                  <a:pt x="0" y="0"/>
                </a:lnTo>
                <a:lnTo>
                  <a:pt x="0" y="3124200"/>
                </a:lnTo>
                <a:lnTo>
                  <a:pt x="460248" y="3124200"/>
                </a:lnTo>
                <a:lnTo>
                  <a:pt x="460248" y="0"/>
                </a:lnTo>
                <a:close/>
              </a:path>
            </a:pathLst>
          </a:custGeom>
          <a:solidFill>
            <a:srgbClr val="dee2eb"/>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pic>
        <p:nvPicPr>
          <p:cNvPr id="677" name="object 11" descr=""/>
          <p:cNvPicPr/>
          <p:nvPr/>
        </p:nvPicPr>
        <p:blipFill>
          <a:blip r:embed="rId1"/>
          <a:stretch/>
        </p:blipFill>
        <p:spPr>
          <a:xfrm>
            <a:off x="165240" y="4395960"/>
            <a:ext cx="645840" cy="1779480"/>
          </a:xfrm>
          <a:prstGeom prst="rect">
            <a:avLst/>
          </a:prstGeom>
          <a:ln w="0">
            <a:noFill/>
          </a:ln>
        </p:spPr>
      </p:pic>
      <p:sp>
        <p:nvSpPr>
          <p:cNvPr id="678" name="object 28"/>
          <p:cNvSpPr/>
          <p:nvPr/>
        </p:nvSpPr>
        <p:spPr>
          <a:xfrm>
            <a:off x="689040" y="1523880"/>
            <a:ext cx="8188200" cy="465228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сновные проектируемые компоненты урока:</a:t>
            </a:r>
            <a:endParaRPr b="0" lang="en-US" sz="2400" spc="-1" strike="noStrike">
              <a:solidFill>
                <a:srgbClr val="000000"/>
              </a:solidFill>
              <a:latin typeface="Tw Cen MT"/>
            </a:endParaRPr>
          </a:p>
          <a:p>
            <a:pPr marL="126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Microsoft Sans Serif"/>
                <a:ea typeface="Microsoft Sans Serif"/>
              </a:rPr>
              <a:t>определение цели,</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тбор содержания,</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проектирование системы учебных задач,</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выбор форм организации учебной деятельности на всех  этапах урока.</a:t>
            </a:r>
            <a:endParaRPr b="0" lang="en-US" sz="24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ое занятие состоит  из этапов</a:t>
            </a:r>
            <a:endParaRPr b="0" lang="en-US" sz="2400" spc="-1" strike="noStrike">
              <a:solidFill>
                <a:srgbClr val="000000"/>
              </a:solidFill>
              <a:latin typeface="Tw Cen MT"/>
            </a:endParaRPr>
          </a:p>
          <a:p>
            <a:pPr marL="12600">
              <a:lnSpc>
                <a:spcPts val="216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На всех этапах учебного  занятия организуется  учебная деятельность</a:t>
            </a:r>
            <a:endParaRPr b="0" lang="en-US" sz="2400" spc="-1" strike="noStrike">
              <a:solidFill>
                <a:srgbClr val="000000"/>
              </a:solidFill>
              <a:latin typeface="Tw Cen MT"/>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ая деятельность  представляет собой  систему учебных задач</a:t>
            </a:r>
            <a:endParaRPr b="0" lang="en-US" sz="2400" spc="-1" strike="noStrike">
              <a:solidFill>
                <a:srgbClr val="000000"/>
              </a:solidFill>
              <a:latin typeface="Tw Cen MT"/>
            </a:endParaRPr>
          </a:p>
        </p:txBody>
      </p:sp>
      <p:sp>
        <p:nvSpPr>
          <p:cNvPr id="679" name="object 29"/>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10B6-638E-44C3-9EC5-343CFEFD0460}"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80" name="Нижний колонтитул 30"/>
          <p:cNvSpPr/>
          <p:nvPr/>
        </p:nvSpPr>
        <p:spPr>
          <a:xfrm>
            <a:off x="609480" y="6248520"/>
            <a:ext cx="6626520" cy="465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81" name="Номер слайда 3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6E09-51C6-4B25-ACBE-DC6C9460CD78}"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9040" y="20160"/>
            <a:ext cx="6556320" cy="10018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Этапы комбинированного урока  и учебная деятельность</a:t>
            </a:r>
            <a:endParaRPr b="0" lang="en-US" sz="3200" spc="-1" strike="noStrike">
              <a:solidFill>
                <a:srgbClr val="04617b"/>
              </a:solidFill>
              <a:latin typeface="Calibri"/>
            </a:endParaRPr>
          </a:p>
        </p:txBody>
      </p:sp>
      <p:sp>
        <p:nvSpPr>
          <p:cNvPr id="683" name="object 3"/>
          <p:cNvSpPr/>
          <p:nvPr/>
        </p:nvSpPr>
        <p:spPr>
          <a:xfrm>
            <a:off x="250920" y="1895400"/>
            <a:ext cx="4141800" cy="2793960"/>
          </a:xfrm>
          <a:prstGeom prst="rect">
            <a:avLst/>
          </a:prstGeom>
          <a:noFill/>
          <a:ln w="0">
            <a:noFill/>
          </a:ln>
        </p:spPr>
        <p:style>
          <a:lnRef idx="0"/>
          <a:fillRef idx="0"/>
          <a:effectRef idx="0"/>
          <a:fontRef idx="minor"/>
        </p:style>
        <p:txBody>
          <a:bodyPr lIns="0" rIns="0" tIns="12600" bIns="0" anchor="t">
            <a:spAutoFit/>
          </a:bodyPr>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Мотивационно-целевой этап</a:t>
            </a: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Актуализация опорных знаний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Изучение нового материала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Самоконтроль и самооценка</a:t>
            </a:r>
            <a:endParaRPr b="0" lang="en-US" sz="1800" spc="-1" strike="noStrike">
              <a:solidFill>
                <a:srgbClr val="000000"/>
              </a:solidFill>
              <a:latin typeface="Tw Cen MT"/>
            </a:endParaRPr>
          </a:p>
        </p:txBody>
      </p:sp>
      <p:sp>
        <p:nvSpPr>
          <p:cNvPr id="684" name="object 4"/>
          <p:cNvSpPr/>
          <p:nvPr/>
        </p:nvSpPr>
        <p:spPr>
          <a:xfrm>
            <a:off x="250920" y="5445000"/>
            <a:ext cx="331308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Рефлексия учебной  деятельности</a:t>
            </a:r>
            <a:endParaRPr b="0" lang="en-US" sz="1800" spc="-1" strike="noStrike">
              <a:solidFill>
                <a:srgbClr val="000000"/>
              </a:solidFill>
              <a:latin typeface="Tw Cen MT"/>
            </a:endParaRPr>
          </a:p>
        </p:txBody>
      </p:sp>
      <p:sp>
        <p:nvSpPr>
          <p:cNvPr id="685" name="object 5"/>
          <p:cNvSpPr/>
          <p:nvPr/>
        </p:nvSpPr>
        <p:spPr>
          <a:xfrm>
            <a:off x="5108400" y="1619280"/>
            <a:ext cx="2575080" cy="111024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Принятие проблемы,  формулирование целей  учебного занятия</a:t>
            </a:r>
            <a:endParaRPr b="0" lang="en-US" sz="1800" spc="-1" strike="noStrike">
              <a:solidFill>
                <a:srgbClr val="000000"/>
              </a:solidFill>
              <a:latin typeface="Tw Cen MT"/>
            </a:endParaRPr>
          </a:p>
        </p:txBody>
      </p:sp>
      <p:sp>
        <p:nvSpPr>
          <p:cNvPr id="686" name="object 6"/>
          <p:cNvSpPr/>
          <p:nvPr/>
        </p:nvSpPr>
        <p:spPr>
          <a:xfrm>
            <a:off x="5121360" y="3227400"/>
            <a:ext cx="261936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Решение учебных задач</a:t>
            </a:r>
            <a:endParaRPr b="0" lang="en-US" sz="1800" spc="-1" strike="noStrike">
              <a:solidFill>
                <a:srgbClr val="000000"/>
              </a:solidFill>
              <a:latin typeface="Tw Cen MT"/>
            </a:endParaRPr>
          </a:p>
        </p:txBody>
      </p:sp>
      <p:sp>
        <p:nvSpPr>
          <p:cNvPr id="687" name="object 7"/>
          <p:cNvSpPr/>
          <p:nvPr/>
        </p:nvSpPr>
        <p:spPr>
          <a:xfrm>
            <a:off x="3998880" y="2884320"/>
            <a:ext cx="44640" cy="1067040"/>
          </a:xfrm>
          <a:custGeom>
            <a:avLst/>
            <a:gdLst/>
            <a:ahLst/>
            <a:rect l="l" t="t" r="r" b="b"/>
            <a:pathLst>
              <a:path w="45720" h="1066800">
                <a:moveTo>
                  <a:pt x="0" y="0"/>
                </a:moveTo>
                <a:lnTo>
                  <a:pt x="12573" y="0"/>
                </a:lnTo>
                <a:lnTo>
                  <a:pt x="22860" y="1650"/>
                </a:lnTo>
                <a:lnTo>
                  <a:pt x="22860" y="3809"/>
                </a:lnTo>
                <a:lnTo>
                  <a:pt x="22860" y="529589"/>
                </a:lnTo>
                <a:lnTo>
                  <a:pt x="22860" y="531749"/>
                </a:lnTo>
                <a:lnTo>
                  <a:pt x="33147" y="533400"/>
                </a:lnTo>
                <a:lnTo>
                  <a:pt x="45720" y="533400"/>
                </a:lnTo>
                <a:lnTo>
                  <a:pt x="33147" y="533400"/>
                </a:lnTo>
                <a:lnTo>
                  <a:pt x="22860" y="535051"/>
                </a:lnTo>
                <a:lnTo>
                  <a:pt x="22860" y="537209"/>
                </a:lnTo>
                <a:lnTo>
                  <a:pt x="22860" y="1062989"/>
                </a:lnTo>
                <a:lnTo>
                  <a:pt x="22860" y="1065148"/>
                </a:lnTo>
                <a:lnTo>
                  <a:pt x="12573" y="1066799"/>
                </a:lnTo>
                <a:lnTo>
                  <a:pt x="0" y="1066799"/>
                </a:lnTo>
              </a:path>
            </a:pathLst>
          </a:custGeom>
          <a:noFill/>
          <a:ln w="28800">
            <a:solidFill>
              <a:srgbClr val="001f5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88" name="object 8"/>
          <p:cNvSpPr/>
          <p:nvPr/>
        </p:nvSpPr>
        <p:spPr>
          <a:xfrm>
            <a:off x="5108400" y="4280040"/>
            <a:ext cx="3135600" cy="222732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оотнесение результатов</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учебной</a:t>
            </a:r>
            <a:r>
              <a:rPr b="0" lang="ru-RU" sz="1800" spc="-1" strike="noStrike">
                <a:solidFill>
                  <a:srgbClr val="006fc0"/>
                </a:solidFill>
                <a:latin typeface="Microsoft Sans Serif"/>
                <a:ea typeface="Microsoft Sans Serif"/>
              </a:rPr>
              <a:t>	</a:t>
            </a:r>
            <a:r>
              <a:rPr b="0" lang="ru-RU" sz="1800" spc="-1" strike="noStrike">
                <a:solidFill>
                  <a:srgbClr val="006fc0"/>
                </a:solidFill>
                <a:latin typeface="Microsoft Sans Serif"/>
                <a:ea typeface="Microsoft Sans Serif"/>
              </a:rPr>
              <a:t>деятельности</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 заданными образцами</a:t>
            </a:r>
            <a:endParaRPr b="0" lang="en-US" sz="1800" spc="-1" strike="noStrike">
              <a:solidFill>
                <a:srgbClr val="000000"/>
              </a:solidFill>
              <a:latin typeface="Tw Cen MT"/>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Оценка собственного  результата учебной  деятельности</a:t>
            </a:r>
            <a:endParaRPr b="0" lang="en-US" sz="1800" spc="-1" strike="noStrike">
              <a:solidFill>
                <a:srgbClr val="000000"/>
              </a:solidFill>
              <a:latin typeface="Tw Cen MT"/>
            </a:endParaRPr>
          </a:p>
        </p:txBody>
      </p:sp>
      <p:sp>
        <p:nvSpPr>
          <p:cNvPr id="689" name="object 9"/>
          <p:cNvSpPr/>
          <p:nvPr/>
        </p:nvSpPr>
        <p:spPr>
          <a:xfrm>
            <a:off x="4114800" y="2038320"/>
            <a:ext cx="923760" cy="87480"/>
          </a:xfrm>
          <a:custGeom>
            <a:avLst/>
            <a:gdLst/>
            <a:ahLst/>
            <a:rect l="l" t="t" r="r" b="b"/>
            <a:pathLst>
              <a:path w="922654" h="86994">
                <a:moveTo>
                  <a:pt x="894272" y="28828"/>
                </a:moveTo>
                <a:lnTo>
                  <a:pt x="849884" y="28828"/>
                </a:lnTo>
                <a:lnTo>
                  <a:pt x="850264" y="57785"/>
                </a:lnTo>
                <a:lnTo>
                  <a:pt x="835744" y="57934"/>
                </a:lnTo>
                <a:lnTo>
                  <a:pt x="836040" y="86868"/>
                </a:lnTo>
                <a:lnTo>
                  <a:pt x="922401" y="42545"/>
                </a:lnTo>
                <a:lnTo>
                  <a:pt x="894272" y="28828"/>
                </a:lnTo>
                <a:close/>
              </a:path>
              <a:path w="922654" h="86994">
                <a:moveTo>
                  <a:pt x="835448" y="28977"/>
                </a:moveTo>
                <a:lnTo>
                  <a:pt x="0" y="37592"/>
                </a:lnTo>
                <a:lnTo>
                  <a:pt x="253" y="66548"/>
                </a:lnTo>
                <a:lnTo>
                  <a:pt x="835744" y="57934"/>
                </a:lnTo>
                <a:lnTo>
                  <a:pt x="835448" y="28977"/>
                </a:lnTo>
                <a:close/>
              </a:path>
              <a:path w="922654" h="86994">
                <a:moveTo>
                  <a:pt x="849884" y="28828"/>
                </a:moveTo>
                <a:lnTo>
                  <a:pt x="835448" y="28977"/>
                </a:lnTo>
                <a:lnTo>
                  <a:pt x="835744" y="57934"/>
                </a:lnTo>
                <a:lnTo>
                  <a:pt x="850264" y="57785"/>
                </a:lnTo>
                <a:lnTo>
                  <a:pt x="849884" y="28828"/>
                </a:lnTo>
                <a:close/>
              </a:path>
              <a:path w="922654" h="86994">
                <a:moveTo>
                  <a:pt x="835151" y="0"/>
                </a:moveTo>
                <a:lnTo>
                  <a:pt x="835448" y="28977"/>
                </a:lnTo>
                <a:lnTo>
                  <a:pt x="849884" y="28828"/>
                </a:lnTo>
                <a:lnTo>
                  <a:pt x="894272" y="28828"/>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0" name="object 10"/>
          <p:cNvSpPr/>
          <p:nvPr/>
        </p:nvSpPr>
        <p:spPr>
          <a:xfrm>
            <a:off x="4392720" y="3373560"/>
            <a:ext cx="636480" cy="87120"/>
          </a:xfrm>
          <a:custGeom>
            <a:avLst/>
            <a:gdLst/>
            <a:ahLst/>
            <a:rect l="l" t="t" r="r" b="b"/>
            <a:pathLst>
              <a:path w="636904" h="86995">
                <a:moveTo>
                  <a:pt x="549656" y="0"/>
                </a:moveTo>
                <a:lnTo>
                  <a:pt x="549656" y="86867"/>
                </a:lnTo>
                <a:lnTo>
                  <a:pt x="607568" y="57912"/>
                </a:lnTo>
                <a:lnTo>
                  <a:pt x="564134" y="57912"/>
                </a:lnTo>
                <a:lnTo>
                  <a:pt x="564134" y="28955"/>
                </a:lnTo>
                <a:lnTo>
                  <a:pt x="607567" y="28955"/>
                </a:lnTo>
                <a:lnTo>
                  <a:pt x="549656" y="0"/>
                </a:lnTo>
                <a:close/>
              </a:path>
              <a:path w="636904" h="86995">
                <a:moveTo>
                  <a:pt x="549656" y="28955"/>
                </a:moveTo>
                <a:lnTo>
                  <a:pt x="0" y="28955"/>
                </a:lnTo>
                <a:lnTo>
                  <a:pt x="0" y="57912"/>
                </a:lnTo>
                <a:lnTo>
                  <a:pt x="549656" y="57912"/>
                </a:lnTo>
                <a:lnTo>
                  <a:pt x="549656" y="28955"/>
                </a:lnTo>
                <a:close/>
              </a:path>
              <a:path w="636904" h="86995">
                <a:moveTo>
                  <a:pt x="607567" y="28955"/>
                </a:moveTo>
                <a:lnTo>
                  <a:pt x="564134" y="28955"/>
                </a:lnTo>
                <a:lnTo>
                  <a:pt x="564134" y="57912"/>
                </a:lnTo>
                <a:lnTo>
                  <a:pt x="607568" y="57912"/>
                </a:lnTo>
                <a:lnTo>
                  <a:pt x="636524" y="43434"/>
                </a:lnTo>
                <a:lnTo>
                  <a:pt x="607567" y="28955"/>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1" name="object 11"/>
          <p:cNvSpPr/>
          <p:nvPr/>
        </p:nvSpPr>
        <p:spPr>
          <a:xfrm>
            <a:off x="4054320" y="4667400"/>
            <a:ext cx="922320" cy="87120"/>
          </a:xfrm>
          <a:custGeom>
            <a:avLst/>
            <a:gdLst/>
            <a:ahLst/>
            <a:rect l="l" t="t" r="r" b="b"/>
            <a:pathLst>
              <a:path w="922654" h="86995">
                <a:moveTo>
                  <a:pt x="894409" y="28829"/>
                </a:moveTo>
                <a:lnTo>
                  <a:pt x="849884" y="28829"/>
                </a:lnTo>
                <a:lnTo>
                  <a:pt x="850264" y="57785"/>
                </a:lnTo>
                <a:lnTo>
                  <a:pt x="835787" y="57958"/>
                </a:lnTo>
                <a:lnTo>
                  <a:pt x="836167" y="86868"/>
                </a:lnTo>
                <a:lnTo>
                  <a:pt x="922401" y="42418"/>
                </a:lnTo>
                <a:lnTo>
                  <a:pt x="894409" y="28829"/>
                </a:lnTo>
                <a:close/>
              </a:path>
              <a:path w="922654" h="86995">
                <a:moveTo>
                  <a:pt x="835406" y="29004"/>
                </a:moveTo>
                <a:lnTo>
                  <a:pt x="0" y="39116"/>
                </a:lnTo>
                <a:lnTo>
                  <a:pt x="253" y="67945"/>
                </a:lnTo>
                <a:lnTo>
                  <a:pt x="835787" y="57958"/>
                </a:lnTo>
                <a:lnTo>
                  <a:pt x="835406" y="29004"/>
                </a:lnTo>
                <a:close/>
              </a:path>
              <a:path w="922654" h="86995">
                <a:moveTo>
                  <a:pt x="849884" y="28829"/>
                </a:moveTo>
                <a:lnTo>
                  <a:pt x="835406" y="29004"/>
                </a:lnTo>
                <a:lnTo>
                  <a:pt x="835787" y="57958"/>
                </a:lnTo>
                <a:lnTo>
                  <a:pt x="850264" y="57785"/>
                </a:lnTo>
                <a:lnTo>
                  <a:pt x="849884" y="28829"/>
                </a:lnTo>
                <a:close/>
              </a:path>
              <a:path w="922654" h="86995">
                <a:moveTo>
                  <a:pt x="835025" y="0"/>
                </a:moveTo>
                <a:lnTo>
                  <a:pt x="835406" y="29004"/>
                </a:lnTo>
                <a:lnTo>
                  <a:pt x="849884" y="28829"/>
                </a:lnTo>
                <a:lnTo>
                  <a:pt x="894409" y="28829"/>
                </a:lnTo>
                <a:lnTo>
                  <a:pt x="835025"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2" name="object 12"/>
          <p:cNvSpPr/>
          <p:nvPr/>
        </p:nvSpPr>
        <p:spPr>
          <a:xfrm>
            <a:off x="4054320" y="5808600"/>
            <a:ext cx="922320" cy="87480"/>
          </a:xfrm>
          <a:custGeom>
            <a:avLst/>
            <a:gdLst/>
            <a:ahLst/>
            <a:rect l="l" t="t" r="r" b="b"/>
            <a:pathLst>
              <a:path w="922654" h="86995">
                <a:moveTo>
                  <a:pt x="894238" y="28803"/>
                </a:moveTo>
                <a:lnTo>
                  <a:pt x="849884" y="28803"/>
                </a:lnTo>
                <a:lnTo>
                  <a:pt x="850264" y="57759"/>
                </a:lnTo>
                <a:lnTo>
                  <a:pt x="835744" y="57909"/>
                </a:lnTo>
                <a:lnTo>
                  <a:pt x="836040" y="86855"/>
                </a:lnTo>
                <a:lnTo>
                  <a:pt x="922401" y="42532"/>
                </a:lnTo>
                <a:lnTo>
                  <a:pt x="894238" y="28803"/>
                </a:lnTo>
                <a:close/>
              </a:path>
              <a:path w="922654" h="86995">
                <a:moveTo>
                  <a:pt x="835448" y="28952"/>
                </a:moveTo>
                <a:lnTo>
                  <a:pt x="0" y="37579"/>
                </a:lnTo>
                <a:lnTo>
                  <a:pt x="253" y="66535"/>
                </a:lnTo>
                <a:lnTo>
                  <a:pt x="835744" y="57909"/>
                </a:lnTo>
                <a:lnTo>
                  <a:pt x="835448" y="28952"/>
                </a:lnTo>
                <a:close/>
              </a:path>
              <a:path w="922654" h="86995">
                <a:moveTo>
                  <a:pt x="849884" y="28803"/>
                </a:moveTo>
                <a:lnTo>
                  <a:pt x="835448" y="28952"/>
                </a:lnTo>
                <a:lnTo>
                  <a:pt x="835744" y="57909"/>
                </a:lnTo>
                <a:lnTo>
                  <a:pt x="850264" y="57759"/>
                </a:lnTo>
                <a:lnTo>
                  <a:pt x="849884" y="28803"/>
                </a:lnTo>
                <a:close/>
              </a:path>
              <a:path w="922654" h="86995">
                <a:moveTo>
                  <a:pt x="835151" y="0"/>
                </a:moveTo>
                <a:lnTo>
                  <a:pt x="835448" y="28952"/>
                </a:lnTo>
                <a:lnTo>
                  <a:pt x="849884" y="28803"/>
                </a:lnTo>
                <a:lnTo>
                  <a:pt x="894238" y="28803"/>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3" name="object 13"/>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FA74-EC70-4EAA-8C31-0A492E935034}"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94" name="Нижний колонтитул 14"/>
          <p:cNvSpPr/>
          <p:nvPr/>
        </p:nvSpPr>
        <p:spPr>
          <a:xfrm>
            <a:off x="609480" y="6248520"/>
            <a:ext cx="74185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95" name="Номер слайда 15"/>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3FEE-D85B-4FB1-ABA0-B012C02B7412}"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69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a:t>
            </a:r>
            <a:r>
              <a:rPr b="0" lang="ru-RU" sz="3000" spc="-1" strike="noStrike">
                <a:solidFill>
                  <a:srgbClr val="000000"/>
                </a:solidFill>
                <a:latin typeface="Calibri"/>
              </a:rPr>
              <a:t>Создать условия для выявления причинно-следственных связей между процессами собирания русских земель вокруг Москвы и успехами в решении внешнеполитических задач на примере взаимоотношения с Золотой Ордой.</a:t>
            </a:r>
            <a:endParaRPr b="0" lang="en-US" sz="3000" spc="-1" strike="noStrike">
              <a:solidFill>
                <a:srgbClr val="000000"/>
              </a:solidFill>
              <a:latin typeface="Calibri"/>
            </a:endParaRPr>
          </a:p>
        </p:txBody>
      </p:sp>
      <p:sp>
        <p:nvSpPr>
          <p:cNvPr id="69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3A33-07A3-44D1-BD84-F9E7761C7F40}"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99"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после корректировки. </a:t>
            </a:r>
            <a:r>
              <a:rPr b="0" lang="ru-RU" sz="30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3000" spc="-1" strike="noStrike">
              <a:solidFill>
                <a:srgbClr val="000000"/>
              </a:solidFill>
              <a:latin typeface="Calibri"/>
            </a:endParaRPr>
          </a:p>
        </p:txBody>
      </p:sp>
      <p:sp>
        <p:nvSpPr>
          <p:cNvPr id="70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2997-36F4-404D-8E5F-7C5390373F34}"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3"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5"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a:t>
            </a:r>
            <a:r>
              <a:rPr b="0" lang="ru-RU" sz="3000" spc="-1" strike="noStrike">
                <a:solidFill>
                  <a:srgbClr val="000000"/>
                </a:solidFill>
                <a:latin typeface="Calibri"/>
              </a:rPr>
              <a:t>Продолжить обучение интеллектуальным приёмам самостоятельной познавательной деятельности (выявление главного, структурирование учебного материала, систематизация знаний, оформление выводов).</a:t>
            </a:r>
            <a:endParaRPr b="0" lang="en-US" sz="3000" spc="-1" strike="noStrike">
              <a:solidFill>
                <a:srgbClr val="000000"/>
              </a:solidFill>
              <a:latin typeface="Calibri"/>
            </a:endParaRPr>
          </a:p>
        </p:txBody>
      </p:sp>
      <p:sp>
        <p:nvSpPr>
          <p:cNvPr id="70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739C-C5F7-4978-B5BC-4F0B34A9D3B5}"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7"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9"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после корректировки. </a:t>
            </a:r>
            <a:r>
              <a:rPr b="0" lang="ru-RU" sz="30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3000" spc="-1" strike="noStrike">
              <a:solidFill>
                <a:srgbClr val="000000"/>
              </a:solidFill>
              <a:latin typeface="Calibri"/>
            </a:endParaRPr>
          </a:p>
        </p:txBody>
      </p:sp>
      <p:sp>
        <p:nvSpPr>
          <p:cNvPr id="710"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E139-A8EA-47D2-B96D-6EE9E2B3EDC7}"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1" name="Нижний колонтитул 4"/>
          <p:cNvSpPr/>
          <p:nvPr/>
        </p:nvSpPr>
        <p:spPr>
          <a:xfrm>
            <a:off x="0" y="6248520"/>
            <a:ext cx="7308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3"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a:t>
            </a:r>
            <a:r>
              <a:rPr b="0" lang="ru-RU" sz="3000" spc="-1" strike="noStrike">
                <a:solidFill>
                  <a:srgbClr val="000000"/>
                </a:solidFill>
                <a:latin typeface="Calibri"/>
              </a:rPr>
              <a:t>Способствовать пониманию собственных интеллектуальных достижений как ценностной характеристики современного человека.</a:t>
            </a:r>
            <a:endParaRPr b="0" lang="en-US" sz="3000" spc="-1" strike="noStrike">
              <a:solidFill>
                <a:srgbClr val="000000"/>
              </a:solidFill>
              <a:latin typeface="Calibri"/>
            </a:endParaRPr>
          </a:p>
        </p:txBody>
      </p:sp>
      <p:sp>
        <p:nvSpPr>
          <p:cNvPr id="71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F387-08A3-434D-96EB-6E62A6F658E2}"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5" name="Нижний колонтитул 4"/>
          <p:cNvSpPr/>
          <p:nvPr/>
        </p:nvSpPr>
        <p:spPr>
          <a:xfrm>
            <a:off x="0" y="6248520"/>
            <a:ext cx="7164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после корректировки. </a:t>
            </a:r>
            <a:r>
              <a:rPr b="0" lang="ru-RU" sz="30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3000" spc="-1" strike="noStrike">
              <a:solidFill>
                <a:srgbClr val="000000"/>
              </a:solidFill>
              <a:latin typeface="Calibri"/>
            </a:endParaRPr>
          </a:p>
        </p:txBody>
      </p:sp>
      <p:sp>
        <p:nvSpPr>
          <p:cNvPr id="71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DC1B-72B6-4B30-95D0-068EA36C56A4}"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9"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Заставка.mp4" descr=""/>
          <p:cNvPicPr/>
          <p:nvPr/>
        </p:nvPicPr>
        <p:blipFill>
          <a:blip r:embed="rId1"/>
          <a:stretch/>
        </p:blipFill>
        <p:spPr>
          <a:xfrm>
            <a:off x="0" y="68400"/>
            <a:ext cx="9414000" cy="6276960"/>
          </a:xfrm>
          <a:prstGeom prst="rect">
            <a:avLst/>
          </a:prstGeom>
          <a:ln w="0">
            <a:noFill/>
          </a:ln>
        </p:spPr>
      </p:pic>
    </p:spTree>
  </p:cSld>
  <p:transition spd="med">
    <p:fade/>
  </p:transition>
  <p:timing>
    <p:tnLst>
      <p:par>
        <p:cTn id="1" dur="indefinite" restart="never" nodeType="tmRoot">
          <p:childTnLst>
            <p:seq>
              <p:cTn id="2" restart="whenNotActive" nodeType="interactiveSeq" fill="hold">
                <p:stCondLst>
                  <p:cond evt="onClick">
                    <p:tgtEl>
                      <p:spTgt spid="631"/>
                    </p:tgtEl>
                  </p:cond>
                </p:stCondLst>
                <p:childTnLst>
                  <p:par>
                    <p:cTn id="3" nodeType="clickEffect" fill="hold">
                      <p:stCondLst>
                        <p:cond evt="onClick">
                          <p:tgtEl>
                            <p:spTgt spid="63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EBEA-8792-42E9-AC90-E8C128FB5488}"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3" name="Нижний колонтитул 4"/>
          <p:cNvSpPr/>
          <p:nvPr/>
        </p:nvSpPr>
        <p:spPr>
          <a:xfrm>
            <a:off x="0" y="6248520"/>
            <a:ext cx="7380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4" name=""/>
          <p:cNvGraphicFramePr/>
          <p:nvPr/>
        </p:nvGraphicFramePr>
        <p:xfrm>
          <a:off x="324000" y="2133720"/>
          <a:ext cx="8712000" cy="3876480"/>
        </p:xfrm>
        <a:graphic>
          <a:graphicData uri="http://schemas.openxmlformats.org/drawingml/2006/table">
            <a:tbl>
              <a:tblPr/>
              <a:tblGrid>
                <a:gridCol w="1136520"/>
                <a:gridCol w="2606760"/>
                <a:gridCol w="2468520"/>
                <a:gridCol w="2500200"/>
              </a:tblGrid>
              <a:tr h="101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6" name=""/>
          <p:cNvSpPr txBox="1"/>
          <p:nvPr/>
        </p:nvSpPr>
        <p:spPr>
          <a:xfrm>
            <a:off x="539280" y="1483920"/>
            <a:ext cx="8226360" cy="360360"/>
          </a:xfrm>
          <a:prstGeom prst="rect">
            <a:avLst/>
          </a:prstGeom>
          <a:noFill/>
          <a:ln w="0">
            <a:noFill/>
          </a:ln>
        </p:spPr>
        <p:txBody>
          <a:bodyPr anchor="t">
            <a:normAutofit fontScale="7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9D38-6C52-4644-8464-3BAE99C47B02}"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8"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9" name=""/>
          <p:cNvGraphicFramePr/>
          <p:nvPr/>
        </p:nvGraphicFramePr>
        <p:xfrm>
          <a:off x="324000" y="1989000"/>
          <a:ext cx="8712000" cy="4402440"/>
        </p:xfrm>
        <a:graphic>
          <a:graphicData uri="http://schemas.openxmlformats.org/drawingml/2006/table">
            <a:tbl>
              <a:tblPr/>
              <a:tblGrid>
                <a:gridCol w="1136520"/>
                <a:gridCol w="2751120"/>
                <a:gridCol w="2324160"/>
                <a:gridCol w="25002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424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37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рриториальная раздробленность страны затрудняет управление</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желание платить дань</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 Донск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зависимость, гордость за свою страну</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0" name=""/>
          <p:cNvGraphicFramePr/>
          <p:nvPr/>
        </p:nvGraphicFramePr>
        <p:xfrm>
          <a:off x="222120" y="1557360"/>
          <a:ext cx="8310600" cy="4694040"/>
        </p:xfrm>
        <a:graphic>
          <a:graphicData uri="http://schemas.openxmlformats.org/drawingml/2006/table">
            <a:tbl>
              <a:tblPr/>
              <a:tblGrid>
                <a:gridCol w="1594080"/>
                <a:gridCol w="1150920"/>
                <a:gridCol w="1176120"/>
                <a:gridCol w="1175040"/>
                <a:gridCol w="1098360"/>
                <a:gridCol w="1096920"/>
                <a:gridCol w="1019160"/>
              </a:tblGrid>
              <a:tr h="208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rowSpan="4">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gn="ctr">
                        <a:lnSpc>
                          <a:spcPct val="115000"/>
                        </a:lnSpc>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одержание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gridSpan="3">
                  <a:txBody>
                    <a:bodyPr lIns="0" rIns="0" tIns="40680" bIns="0" anchor="t">
                      <a:noAutofit/>
                    </a:bodyPr>
                    <a:p>
                      <a:pPr marL="64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ланируемые результат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257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90720" bIns="0" anchor="t">
                      <a:noAutofit/>
                    </a:bodyPr>
                    <a:p>
                      <a:pPr algn="ctr">
                        <a:lnSpc>
                          <a:spcPts val="1312"/>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Форм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182880">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идактическая</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ь</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1260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организаци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r>
              <a:tr h="1067400">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труктура урока</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w="5760">
                      <a:solidFill>
                        <a:srgbClr val="000000"/>
                      </a:solidFill>
                    </a:lnB>
                    <a:noFill/>
                  </a:tcPr>
                </a:tc>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ителя</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w="5760">
                      <a:solidFill>
                        <a:srgbClr val="545454"/>
                      </a:solidFill>
                    </a:lnB>
                    <a:noFill/>
                  </a:tcPr>
                </a:tc>
                <a:tc>
                  <a:txBody>
                    <a:bodyPr lIns="0" rIns="0" tIns="504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ебной</a:t>
                      </a:r>
                      <a:endParaRPr b="0" lang="en-US" sz="1100" spc="-1" strike="noStrike">
                        <a:solidFill>
                          <a:srgbClr val="000000"/>
                        </a:solidFill>
                        <a:latin typeface="Tw Cen MT"/>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Личнос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120600" bIns="0" anchor="t">
                      <a:noAutofit/>
                    </a:bodyPr>
                    <a:p>
                      <a:pPr marL="3240"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Мета</a:t>
                      </a:r>
                      <a:endParaRPr b="0" lang="en-US" sz="1100" spc="-1" strike="noStrike">
                        <a:solidFill>
                          <a:srgbClr val="000000"/>
                        </a:solidFill>
                        <a:latin typeface="Tw Cen MT"/>
                      </a:endParaRPr>
                    </a:p>
                    <a:p>
                      <a:pPr marL="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r>
              <a:tr h="397440">
                <a:tc>
                  <a:txBody>
                    <a:bodyPr lIns="0" rIns="0" tIns="12600" bIns="0" anchor="t">
                      <a:noAutofit/>
                    </a:bodyPr>
                    <a:p>
                      <a:pPr marL="336600" indent="-637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Мотивационно-  целевой этап</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000000"/>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15160">
                <a:tc>
                  <a:txBody>
                    <a:bodyPr lIns="0" rIns="0" tIns="130320" bIns="0" anchor="t">
                      <a:noAutofit/>
                    </a:bodyPr>
                    <a:p>
                      <a:pPr marL="546120" indent="-3952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актуализации  знаний</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706680">
                <a:tc>
                  <a:txBody>
                    <a:bodyPr lIns="0" rIns="0" tIns="129600" bIns="0" anchor="t">
                      <a:noAutofit/>
                    </a:bodyPr>
                    <a:p>
                      <a:pPr marL="547560" indent="-4870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изучения нового  знани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429480">
                <a:tc>
                  <a:txBody>
                    <a:bodyPr lIns="0" rIns="0" tIns="252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самоконтрол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83920">
                <a:tc>
                  <a:txBody>
                    <a:bodyPr lIns="0" rIns="0" tIns="6840" bIns="0" anchor="t">
                      <a:noAutofit/>
                    </a:bodyPr>
                    <a:p>
                      <a:pPr marL="236520" algn="ctr">
                        <a:lnSpc>
                          <a:spcPct val="11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рефлексии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bl>
          </a:graphicData>
        </a:graphic>
      </p:graphicFrame>
      <p:sp>
        <p:nvSpPr>
          <p:cNvPr id="731" name="object 4"/>
          <p:cNvSpPr/>
          <p:nvPr/>
        </p:nvSpPr>
        <p:spPr>
          <a:xfrm>
            <a:off x="0" y="1303200"/>
            <a:ext cx="53352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BF04-7183-43A0-9071-06BF154B2B93}" type="slidenum">
              <a:rPr b="1" lang="ru-RU"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732" name="PlaceHolder 1"/>
          <p:cNvSpPr>
            <a:spLocks noGrp="1"/>
          </p:cNvSpPr>
          <p:nvPr>
            <p:ph type="title"/>
          </p:nvPr>
        </p:nvSpPr>
        <p:spPr>
          <a:xfrm>
            <a:off x="853920" y="374760"/>
            <a:ext cx="5918400" cy="5140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Технологическая карта урока</a:t>
            </a:r>
            <a:endParaRPr b="0" lang="en-US" sz="3200" spc="-1" strike="noStrike">
              <a:solidFill>
                <a:srgbClr val="04617b"/>
              </a:solidFill>
              <a:latin typeface="Calibri"/>
            </a:endParaRPr>
          </a:p>
        </p:txBody>
      </p:sp>
      <p:sp>
        <p:nvSpPr>
          <p:cNvPr id="733" name="Нижний колонтитул 5"/>
          <p:cNvSpPr/>
          <p:nvPr/>
        </p:nvSpPr>
        <p:spPr>
          <a:xfrm>
            <a:off x="609480" y="6248520"/>
            <a:ext cx="64105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68440" y="403200"/>
            <a:ext cx="6951600" cy="5126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Критерии результативности урока</a:t>
            </a:r>
            <a:endParaRPr b="0" lang="en-US" sz="3200" spc="-1" strike="noStrike">
              <a:solidFill>
                <a:srgbClr val="04617b"/>
              </a:solidFill>
              <a:latin typeface="Calibri"/>
            </a:endParaRPr>
          </a:p>
        </p:txBody>
      </p:sp>
      <p:sp>
        <p:nvSpPr>
          <p:cNvPr id="735" name="object 4"/>
          <p:cNvSpPr/>
          <p:nvPr/>
        </p:nvSpPr>
        <p:spPr>
          <a:xfrm>
            <a:off x="179280" y="1285920"/>
            <a:ext cx="28908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w Cen MT"/>
              </a:rPr>
              <a:t>23</a:t>
            </a:r>
            <a:endParaRPr b="0" lang="en-US" sz="1400" spc="-1" strike="noStrike">
              <a:solidFill>
                <a:srgbClr val="000000"/>
              </a:solidFill>
              <a:latin typeface="Tw Cen MT"/>
            </a:endParaRPr>
          </a:p>
        </p:txBody>
      </p:sp>
      <p:sp>
        <p:nvSpPr>
          <p:cNvPr id="736" name="object 3"/>
          <p:cNvSpPr/>
          <p:nvPr/>
        </p:nvSpPr>
        <p:spPr>
          <a:xfrm>
            <a:off x="468360" y="1484280"/>
            <a:ext cx="8351640" cy="4769640"/>
          </a:xfrm>
          <a:prstGeom prst="rect">
            <a:avLst/>
          </a:prstGeom>
          <a:noFill/>
          <a:ln w="0">
            <a:noFill/>
          </a:ln>
        </p:spPr>
        <p:style>
          <a:lnRef idx="0"/>
          <a:fillRef idx="0"/>
          <a:effectRef idx="0"/>
          <a:fontRef idx="minor"/>
        </p:style>
        <p:txBody>
          <a:bodyPr lIns="0" rIns="0" tIns="13320" bIns="0" anchor="t">
            <a:spAutoFit/>
          </a:bodyPr>
          <a:p>
            <a:pPr marL="239760" indent="-227160">
              <a:lnSpc>
                <a:spcPts val="2273"/>
              </a:lnSpc>
              <a:spcBef>
                <a:spcPts val="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Цели урока задаются с тенденцией передачи функции от</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я к ученику.</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ет личностных, метапредметных и предметных планируемых  результатов в определении целей урока.</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Использование разнообразных форм, методов и приемов  обучения, повышающих активность учащихся.</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владеет технологией диалога, обучает учащихся  ставить и адресовать вопросы.</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эффективно сочетает репродуктивную и проблемную  форму обучения, учит детей работать по правилу и творчески.</a:t>
            </a:r>
            <a:endParaRPr b="0" lang="en-US" sz="2000" spc="-1" strike="noStrike">
              <a:solidFill>
                <a:srgbClr val="000000"/>
              </a:solidFill>
              <a:latin typeface="Tw Cen MT"/>
            </a:endParaRPr>
          </a:p>
          <a:p>
            <a:pPr marL="239760" indent="-227160">
              <a:lnSpc>
                <a:spcPts val="2273"/>
              </a:lnSpc>
              <a:spcBef>
                <a:spcPts val="524"/>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систематически обучает детей осуществлять</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рефлексивное действие.</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Стиль, тон отношений, задаваемые на уроке, создают  атмосферу сотрудничества, сотворчества, психологического  комфорта.</a:t>
            </a:r>
            <a:endParaRPr b="0" lang="en-US" sz="2000" spc="-1" strike="noStrike">
              <a:solidFill>
                <a:srgbClr val="000000"/>
              </a:solidFill>
              <a:latin typeface="Tw Cen MT"/>
            </a:endParaRPr>
          </a:p>
        </p:txBody>
      </p:sp>
      <p:sp>
        <p:nvSpPr>
          <p:cNvPr id="737" name="Нижний колонтитул 5"/>
          <p:cNvSpPr/>
          <p:nvPr/>
        </p:nvSpPr>
        <p:spPr>
          <a:xfrm>
            <a:off x="609480" y="6248520"/>
            <a:ext cx="6554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3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уется ли заявление родителей при переводе на обучение по обновленным ФГОС? При условии если организация по всем параллелям одновременно переходит на обновленный ФГОС ООО, согласия родителей (законных представителей) обучающихся не требуется?</a:t>
            </a:r>
            <a:endParaRPr b="0" lang="en-US" sz="2900" spc="-1" strike="noStrike">
              <a:solidFill>
                <a:srgbClr val="000000"/>
              </a:solidFill>
              <a:latin typeface="Calibri"/>
            </a:endParaRPr>
          </a:p>
        </p:txBody>
      </p:sp>
      <p:sp>
        <p:nvSpPr>
          <p:cNvPr id="740"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1"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2505-DBF1-4E5A-BA53-D4A5C40EEB4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3" name=""/>
          <p:cNvSpPr txBox="1"/>
          <p:nvPr/>
        </p:nvSpPr>
        <p:spPr>
          <a:xfrm>
            <a:off x="-108000" y="1515960"/>
            <a:ext cx="9252000" cy="4579920"/>
          </a:xfrm>
          <a:prstGeom prst="rect">
            <a:avLst/>
          </a:prstGeom>
          <a:noFill/>
          <a:ln w="0">
            <a:noFill/>
          </a:ln>
        </p:spPr>
        <p:txBody>
          <a:bodyPr anchor="t">
            <a:normAutofit fontScale="93000"/>
          </a:bodyPr>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гласно ФГОС НОО (приказ Минобрнауки России от 06.10.2009 № 373) и ФГОС ООО (приказ Минобрнауки России от 17.12.2010 № 1897) предметы «Родной язык», «Литературное чтение на родном языке» и «Родная литература» являются обязательными для изучения. В обновленных ФГОС НОО и ФГОС ООО учебные предметы «Родной язык», «Литературное чтение на родном языке» и «Родная литература» также включены в список обязательных, однако, согласно пунктам 32.1 и 33.1 приказов Минпросвещения России от 31.05.2021 № 286 и № 287 соответственно, в которых предусмотрено, что для образовательных организаций, в которых языком образования является русский язык, изучение этих предметов осуществляется при наличии возможностей образовательной организации и по заявлению обучающихся, родителей (законных представителей) несовершеннолетних обучающихся. Возникают противоречия и неоднозначная трактовка профессиональным сообществом требований обязательности/необязательности включения данных предметов в учебных план. Какие разъяснения по этому поводу можно дать? Такая же ситуация со вторым иностранным языком.</a:t>
            </a:r>
            <a:endParaRPr b="0" lang="en-US" sz="2000" spc="-1" strike="noStrike">
              <a:solidFill>
                <a:srgbClr val="000000"/>
              </a:solidFill>
              <a:latin typeface="Calibri"/>
            </a:endParaRPr>
          </a:p>
        </p:txBody>
      </p:sp>
      <p:sp>
        <p:nvSpPr>
          <p:cNvPr id="744" name="Нижний колонтитул 4"/>
          <p:cNvSpPr/>
          <p:nvPr/>
        </p:nvSpPr>
        <p:spPr>
          <a:xfrm>
            <a:off x="609480" y="6392880"/>
            <a:ext cx="7058160" cy="349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5"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3145-6014-494F-8C3B-9B547BD1A2AF}"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огда будут методические рекомендации по использованию учебников, имеющихся в фондах школьных библиотек, входящих в действующий ФПУ, при реализации обновленных ФГОС НОО и ООО?</a:t>
            </a:r>
            <a:endParaRPr b="0" lang="en-US" sz="2900" spc="-1" strike="noStrike">
              <a:solidFill>
                <a:srgbClr val="000000"/>
              </a:solidFill>
              <a:latin typeface="Calibri"/>
            </a:endParaRPr>
          </a:p>
        </p:txBody>
      </p:sp>
      <p:sp>
        <p:nvSpPr>
          <p:cNvPr id="748"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805E-76FA-40DC-A803-D36FFC725FC1}"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ри разработке рабочих программ в онлайн-конструкторе возникают проблемы с указанием образовательных ресурсов. Ранее разработчики конструктора планировали сформировать перечень верифицированных образовательных ресурсов и в конструкторе предусмотреть возможность выбора ресурсов (в виде выпадающего списка), будет ли в августе в конструкторе предусмотрена такая возможность?</a:t>
            </a:r>
            <a:endParaRPr b="0" lang="en-US" sz="2900" spc="-1" strike="noStrike">
              <a:solidFill>
                <a:srgbClr val="000000"/>
              </a:solidFill>
              <a:latin typeface="Calibri"/>
            </a:endParaRPr>
          </a:p>
        </p:txBody>
      </p:sp>
      <p:sp>
        <p:nvSpPr>
          <p:cNvPr id="752"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3"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8381-8703-4D4E-94E6-D28015D526F5}"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ожно ли обеспечить обучающихся электронными учебниками (а не бумажными) по предметам одного часа (музыка, ИЗО, ОБЖ, физическая культура и пр.)?</a:t>
            </a:r>
            <a:endParaRPr b="0" lang="en-US" sz="2900" spc="-1" strike="noStrike">
              <a:solidFill>
                <a:srgbClr val="000000"/>
              </a:solidFill>
              <a:latin typeface="Calibri"/>
            </a:endParaRPr>
          </a:p>
        </p:txBody>
      </p:sp>
      <p:sp>
        <p:nvSpPr>
          <p:cNvPr id="756"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8200-D6B8-4302-BB5F-50F6228C065F}"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аков статус и формат примерной основной образовательной программы? Является ли учебный план, который содержится в примерной ООП, в рамках ФГОС нормативным документом?</a:t>
            </a:r>
            <a:endParaRPr b="0" lang="en-US" sz="2900" spc="-1" strike="noStrike">
              <a:solidFill>
                <a:srgbClr val="000000"/>
              </a:solidFill>
              <a:latin typeface="Calibri"/>
            </a:endParaRPr>
          </a:p>
        </p:txBody>
      </p:sp>
      <p:sp>
        <p:nvSpPr>
          <p:cNvPr id="760" name="Нижний колонтитул 3"/>
          <p:cNvSpPr/>
          <p:nvPr/>
        </p:nvSpPr>
        <p:spPr>
          <a:xfrm>
            <a:off x="609480" y="6248520"/>
            <a:ext cx="68421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61" name="Номер слайда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DF6A-DDD7-49E6-A32E-D0200608EDF8}"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Рекомендации к разработк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Положения о рабочей программ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с формулировками по обновленным ФГОС</a:t>
            </a:r>
            <a:endParaRPr b="0" lang="en-US" sz="3600" spc="-1" strike="noStrike">
              <a:solidFill>
                <a:srgbClr val="000000"/>
              </a:solidFill>
              <a:latin typeface="Tw Cen MT"/>
            </a:endParaRPr>
          </a:p>
        </p:txBody>
      </p:sp>
      <p:sp>
        <p:nvSpPr>
          <p:cNvPr id="633"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34"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5"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Рисунок 5" descr=""/>
          <p:cNvPicPr/>
          <p:nvPr/>
        </p:nvPicPr>
        <p:blipFill>
          <a:blip r:embed="rId1"/>
          <a:stretch/>
        </p:blipFill>
        <p:spPr>
          <a:xfrm>
            <a:off x="539640" y="104760"/>
            <a:ext cx="720720" cy="1047600"/>
          </a:xfrm>
          <a:prstGeom prst="rect">
            <a:avLst/>
          </a:prstGeom>
          <a:ln w="0">
            <a:noFill/>
          </a:ln>
          <a:effectLst>
            <a:outerShdw dist="139498" dir="2700000" blurRad="0" rotWithShape="0">
              <a:srgbClr val="333333">
                <a:alpha val="65000"/>
              </a:srgbClr>
            </a:outerShdw>
          </a:effectLst>
        </p:spPr>
      </p:pic>
      <p:sp>
        <p:nvSpPr>
          <p:cNvPr id="637" name="PlaceHolder 1"/>
          <p:cNvSpPr>
            <a:spLocks noGrp="1"/>
          </p:cNvSpPr>
          <p:nvPr>
            <p:ph type="title"/>
          </p:nvPr>
        </p:nvSpPr>
        <p:spPr>
          <a:xfrm>
            <a:off x="971280" y="228600"/>
            <a:ext cx="7794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4617b"/>
                </a:solidFill>
                <a:latin typeface="Calibri"/>
              </a:rPr>
              <a:t>Разделы Положения о рабочей программе, подлежащие коррекции</a:t>
            </a:r>
            <a:endParaRPr b="0" lang="en-US" sz="3000" spc="-1" strike="noStrike">
              <a:solidFill>
                <a:srgbClr val="04617b"/>
              </a:solidFill>
              <a:latin typeface="Calibri"/>
            </a:endParaRPr>
          </a:p>
        </p:txBody>
      </p:sp>
      <p:sp>
        <p:nvSpPr>
          <p:cNvPr id="638" name=""/>
          <p:cNvSpPr txBox="1"/>
          <p:nvPr/>
        </p:nvSpPr>
        <p:spPr>
          <a:xfrm>
            <a:off x="755280" y="1599840"/>
            <a:ext cx="8010360" cy="1684440"/>
          </a:xfrm>
          <a:prstGeom prst="rect">
            <a:avLst/>
          </a:prstGeom>
          <a:noFill/>
          <a:ln w="0">
            <a:noFill/>
          </a:ln>
        </p:spPr>
        <p:txBody>
          <a:bodyPr anchor="t">
            <a:normAutofit fontScale="79000"/>
          </a:bodyPr>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труктура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рядок разработки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Оформление и хранение рабочей программы</a:t>
            </a:r>
            <a:endParaRPr b="0" lang="en-US" sz="3600" spc="-1" strike="noStrike">
              <a:solidFill>
                <a:srgbClr val="000000"/>
              </a:solidFill>
              <a:latin typeface="Calibri"/>
            </a:endParaRPr>
          </a:p>
          <a:p>
            <a:pPr marL="251640" indent="-251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9" name="Нижний колонтитул 2"/>
          <p:cNvSpPr/>
          <p:nvPr/>
        </p:nvSpPr>
        <p:spPr>
          <a:xfrm>
            <a:off x="250920" y="6248520"/>
            <a:ext cx="7416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0" name="Номер слайда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9F6A-7E58-429C-9E3B-EE34BC59F375}"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Структура рабочей программы»</a:t>
            </a:r>
            <a:endParaRPr b="0" lang="en-US" sz="3500" spc="-1" strike="noStrike">
              <a:solidFill>
                <a:srgbClr val="04617b"/>
              </a:solidFill>
              <a:latin typeface="Calibri"/>
            </a:endParaRPr>
          </a:p>
        </p:txBody>
      </p:sp>
      <p:sp>
        <p:nvSpPr>
          <p:cNvPr id="64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структуре рабочей программы</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Форма проведения занятий</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ематическое планирование </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Учет программы воспитания</a:t>
            </a:r>
            <a:endParaRPr b="0" lang="en-US" sz="2900" spc="-1" strike="noStrike">
              <a:solidFill>
                <a:srgbClr val="000000"/>
              </a:solidFill>
              <a:latin typeface="Calibri"/>
            </a:endParaRPr>
          </a:p>
        </p:txBody>
      </p:sp>
      <p:sp>
        <p:nvSpPr>
          <p:cNvPr id="643"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8EC2-B08F-446E-9FC4-A9AD47CF47BE}"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Порядок разработки рабочей программы»</a:t>
            </a:r>
            <a:endParaRPr b="0" lang="en-US" sz="3500" spc="-1" strike="noStrike">
              <a:solidFill>
                <a:srgbClr val="04617b"/>
              </a:solidFill>
              <a:latin typeface="Calibri"/>
            </a:endParaRPr>
          </a:p>
        </p:txBody>
      </p:sp>
      <p:sp>
        <p:nvSpPr>
          <p:cNvPr id="64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зменения в тематическом планировании</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ериод действия рабочей программы</a:t>
            </a:r>
            <a:endParaRPr b="0" lang="en-US" sz="2900" spc="-1" strike="noStrike">
              <a:solidFill>
                <a:srgbClr val="000000"/>
              </a:solidFill>
              <a:latin typeface="Calibri"/>
            </a:endParaRPr>
          </a:p>
        </p:txBody>
      </p:sp>
      <p:sp>
        <p:nvSpPr>
          <p:cNvPr id="647"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7441-0A23-4529-B339-E23C1284FF9E}"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Оформление и хранение рабочей программы»</a:t>
            </a:r>
            <a:endParaRPr b="0" lang="en-US" sz="3500" spc="-1" strike="noStrike">
              <a:solidFill>
                <a:srgbClr val="04617b"/>
              </a:solidFill>
              <a:latin typeface="Calibri"/>
            </a:endParaRPr>
          </a:p>
        </p:txBody>
      </p:sp>
      <p:sp>
        <p:nvSpPr>
          <p:cNvPr id="65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шрифту, интервалу, полям</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Аннотация</a:t>
            </a:r>
            <a:endParaRPr b="0" lang="en-US" sz="2900" spc="-1" strike="noStrike">
              <a:solidFill>
                <a:srgbClr val="000000"/>
              </a:solidFill>
              <a:latin typeface="Calibri"/>
            </a:endParaRPr>
          </a:p>
        </p:txBody>
      </p:sp>
      <p:sp>
        <p:nvSpPr>
          <p:cNvPr id="651" name="Нижний колонтитул 4"/>
          <p:cNvSpPr/>
          <p:nvPr/>
        </p:nvSpPr>
        <p:spPr>
          <a:xfrm>
            <a:off x="609480" y="6248520"/>
            <a:ext cx="6986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AF9C-CA0C-4A8F-ADF7-23608FE7809D}"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Пример Положения о рабочей программе</a:t>
            </a:r>
            <a:endParaRPr b="0" lang="en-US" sz="4400" spc="-1" strike="noStrike">
              <a:solidFill>
                <a:srgbClr val="04617b"/>
              </a:solidFill>
              <a:latin typeface="Calibri"/>
            </a:endParaRPr>
          </a:p>
        </p:txBody>
      </p:sp>
      <p:sp>
        <p:nvSpPr>
          <p:cNvPr id="654"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e2d700"/>
                </a:solidFill>
                <a:uFillTx/>
                <a:latin typeface="Tw Cen MT"/>
                <a:hlinkClick r:id="rId1"/>
              </a:rPr>
              <a:t>https://cloud.mail.ru/public/5aWP/F5vD2UPHQ</a:t>
            </a:r>
            <a:endParaRPr b="0" lang="en-US" sz="2900" spc="-1" strike="noStrike">
              <a:solidFill>
                <a:srgbClr val="000000"/>
              </a:solidFill>
              <a:latin typeface="Calibri"/>
            </a:endParaRPr>
          </a:p>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55" name="Нижний колонтитул 4"/>
          <p:cNvSpPr/>
          <p:nvPr/>
        </p:nvSpPr>
        <p:spPr>
          <a:xfrm>
            <a:off x="609480" y="6248520"/>
            <a:ext cx="6915240" cy="493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2040-3E2B-4BBB-8B49-31850F76946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ариант работы по составлению поурочного планирования</a:t>
            </a:r>
            <a:endParaRPr b="0" lang="en-US" sz="4400" spc="-1" strike="noStrike">
              <a:solidFill>
                <a:srgbClr val="04617b"/>
              </a:solidFill>
              <a:latin typeface="Calibri"/>
            </a:endParaRPr>
          </a:p>
        </p:txBody>
      </p:sp>
      <p:sp>
        <p:nvSpPr>
          <p:cNvPr id="658" name="Нижний колонтитул 4"/>
          <p:cNvSpPr/>
          <p:nvPr/>
        </p:nvSpPr>
        <p:spPr>
          <a:xfrm>
            <a:off x="609480" y="6248520"/>
            <a:ext cx="6842160" cy="60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1C90-A29D-4165-A290-E2097D793FD6}"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grpSp>
        <p:nvGrpSpPr>
          <p:cNvPr id="660" name="Group 2"/>
          <p:cNvGrpSpPr/>
          <p:nvPr/>
        </p:nvGrpSpPr>
        <p:grpSpPr>
          <a:xfrm>
            <a:off x="1204920" y="1515960"/>
            <a:ext cx="6769080" cy="4732560"/>
            <a:chOff x="1204920" y="1515960"/>
            <a:chExt cx="6769080" cy="4732560"/>
          </a:xfrm>
        </p:grpSpPr>
        <p:pic>
          <p:nvPicPr>
            <p:cNvPr id="661" name="Picture 3" descr=""/>
            <p:cNvPicPr/>
            <p:nvPr/>
          </p:nvPicPr>
          <p:blipFill>
            <a:blip r:embed="rId1"/>
            <a:stretch/>
          </p:blipFill>
          <p:spPr>
            <a:xfrm>
              <a:off x="1210320" y="1520640"/>
              <a:ext cx="6758640" cy="4722120"/>
            </a:xfrm>
            <a:prstGeom prst="rect">
              <a:avLst/>
            </a:prstGeom>
            <a:ln w="0">
              <a:noFill/>
            </a:ln>
          </p:spPr>
        </p:pic>
        <p:sp>
          <p:nvSpPr>
            <p:cNvPr id="662" name="Rectangle 4"/>
            <p:cNvSpPr/>
            <p:nvPr/>
          </p:nvSpPr>
          <p:spPr>
            <a:xfrm>
              <a:off x="1204920" y="1515960"/>
              <a:ext cx="6769080" cy="4732560"/>
            </a:xfrm>
            <a:prstGeom prst="rect">
              <a:avLst/>
            </a:prstGeom>
            <a:noFill/>
            <a:ln w="9360">
              <a:solidFill>
                <a:srgbClr val="d0cec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0T15:55:46Z</dcterms:created>
  <dc:creator>mm1</dc:creator>
  <dc:description/>
  <dc:language>en-US</dc:language>
  <cp:lastModifiedBy>Пользователь Windows</cp:lastModifiedBy>
  <dcterms:modified xsi:type="dcterms:W3CDTF">2022-08-29T06:51:19Z</dcterms:modified>
  <cp:revision>573</cp:revision>
  <dc:subject/>
  <dc:title>Презентация PowerPoint</dc:title>
</cp:coreProperties>
</file>