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DA0-B07B-4A59-A2B2-24C1D4E9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22D-9939-48EB-AFCF-CB8C2223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40E94-7AE4-4C01-8B33-5F32DD1D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854DE-35D8-4D08-B576-873281DF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154D7-9E52-4D3B-842E-CCEB24BA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E2A3F-1CEC-4DE0-BC81-EA260F9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E1FD8-C301-41DC-AF60-C93BE30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75EE8-2118-4AEF-B585-25B841E6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AEFB5-C426-41EE-8066-1B150F59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6FAB1-6D92-4F4F-9B59-4D985109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A1290-1886-4D20-B699-85BDD85C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F4E82C-1E71-4897-8580-30A9F49F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6AE-62D1-454A-87E9-CD37061B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BB15AD-FC93-478E-A5C9-B45E4101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F7BD09-2EBA-4958-B029-91C8D420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ED4C73-A96B-4474-A531-969A3A7B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8A6C1E-0B70-49EC-9C86-2E695EE7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CDDDB-3D5D-40DD-A322-A8AF63C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61B400-3F04-4088-9C01-4550653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523C33-A8EB-4BFE-AE60-A42C2F19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6BFA11-2B9C-48E6-A9F2-700A541A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7E277D-32B0-470D-B9D7-D31C1323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2A0355-C167-479E-B4A6-3DA525CB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E28-7D26-45F4-BD80-2E1065A6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7CDA21-B53B-44CA-BFFB-D1CF2163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CFF26-1274-43D4-BED2-00B857FF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F09F3-32F9-4730-97AE-F8CE11B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D81CC-E56C-482F-B7AD-7756D10E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8D119-AADD-4543-B6DA-DF56127F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AAC1B-544D-49AD-8039-C61901D9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C57B4-052B-48EE-9DC1-59243A10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B1B3D-59BE-4F08-BCF7-3FA0CB55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526B7-AA0F-43B3-9138-7B78EB70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1E273-DD69-4F05-80A1-9DCDEA39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CFF0-D5B9-4746-8EAE-86CF60D0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11AA8-8FA8-40BB-BF81-6AC72065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437C1-9A2C-403D-A41B-3A503859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3E510-9B8A-4D6B-86C0-974E34F7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EB98C-84DB-4DF9-A439-EE5186A4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B97B3-7BD4-40FE-AC5F-D015CDA7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4380C-E109-4AD3-AAA0-0D7DC40C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0BC52-18EF-4914-8883-420A4489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C6DC4-4D73-4947-9528-512FEBEC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34CE4-EC54-4F03-A0AC-585BBEEE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773BB-CCC6-4817-B6C0-456BE521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C5D1-4608-45FD-AD77-7CB289F5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7D693-4E58-4763-BAF4-03DD34F5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ED6E7-C7BF-493B-8827-D477B009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BB93E-DF39-4E6A-A790-06943C2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A3419-BB9E-40C5-A2FC-12CB601F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18847-6384-4B5A-9947-E9B43BDD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459F-BDC9-4E1B-94A1-3295E5A8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977F-A7F8-4358-A289-549DF940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C067-39FD-400A-88E5-235F2535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9360-D3FA-4BE6-AEC6-A733C50E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F46D-E75E-4821-BD4D-7F1A4D3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451-7251-4C79-B921-D15F0498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B00D-963F-465F-A10C-0015BB03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85A4-E000-465A-A336-91AF0782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821E-E543-43B2-A316-AFB9F203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2B7A-F102-46E4-BDF0-AD6F4925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2C25-E427-4FA9-84E3-48299657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35B0-3144-42FE-A5E7-09EC7F4B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EDD4-ADDC-49A7-81CE-E8032076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6BD7-9528-45AF-BD4C-BF7D8CC6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AFE8-C35B-46F2-A168-DA5530AF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E558-BC99-47D4-AC8F-EB899664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94D-1262-44D2-A3DE-31ECB7D4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E44C-0E29-4928-9AE8-61FA10DD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B16C4-F2E5-42C1-805E-CBBBC492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88BB-4074-4FAB-9227-6C615285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A795-EE45-4DBD-AAD2-2E7B4D7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21F1-C054-48B6-8ABA-F7EF3E2D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C12C5-E4CB-4B42-86A5-761FF1A2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358C-971D-4168-BE10-5FD55DA8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06636-4305-43CF-8995-69D6FE96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704A0-BB93-40DD-802F-2AB6CDEC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EFD09-F937-412B-B26E-B6BF275E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765-4EB4-48B4-81C7-25EE58F4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9DEE6-08FF-4093-AB36-F41E76EE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6C169-4AF2-4559-9686-BBC5CC6F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5D0BA8-B7DC-4232-8402-0C52B907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6FE8D-39A1-4C46-91D5-F8328C8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C1CCD-57FC-42DB-A793-D3D30D6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6A48F-0889-44B1-9474-75AE63F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7BE3C-D138-457C-94EA-3CC906F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04D77-E67A-49D9-8EBD-BBEC7E85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F6166-EF4D-415E-9513-FC343D6C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8B8A5-9AA4-47AB-A665-F2EB5743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878-D27D-40D4-96B1-83F39A08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CE720-0C56-4142-802A-3D2EC7DE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E40AC-224D-4C0A-AAA3-9805DBCA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1BD64-F651-4B9F-9BDE-583D4EF0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CBD3E-D3CE-439D-93EA-27991109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227DD-E24B-4FB9-BC06-6089878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9643C-0791-45B1-9FC7-11F47D45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747C8-D9C6-4D88-A9EC-BE075761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6BC3A-B0CC-4DB4-B163-569D771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B8A28-3F2D-450C-90BD-13D185A4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8CC29-8737-46BA-B438-A4542571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705-5F22-498F-9742-6A1A62F0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AAF01-238A-400E-B9C1-3909F282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6BE21-03D2-4CCD-88FE-2E7B3CAF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560BC-69C4-40F1-829E-6884C07B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82D10-2A9C-45D1-A3C7-A0B13546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C2F37-DBDE-47F3-BACD-D9D67540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B91F1-A731-4C6C-A76B-9EF2AF5D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DD406-DDFD-4339-A8BE-B47993FE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CE4C2-71F4-4026-8D44-5CA255FB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A1508-F38A-4C3A-A507-BAF843C0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CB6B0-9A3E-4444-A338-E3269D9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695-7506-4525-99FA-F22B154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F7DFF-794F-4C46-9F1C-2C68C1E2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C5FDF-AF84-45C5-B86C-4D8CF44C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2C6B8-6230-4B4C-AC92-40207A85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763E-3CE0-4938-8163-B01B3052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FA158-6895-4BCB-AA67-2FAEF546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B23E7-D282-427D-8288-612DC4BF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A46E9-2F9E-4DAC-A694-A448FB9C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E5A18-BF56-4D1B-8EC1-19639504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25DC9-F18F-43D6-AC6F-1A8A9EC8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AF9B6-FEA8-4CBD-857F-7E38B50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13C-AE77-4E9A-8132-A9BCF358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725E1-A038-4E9C-9481-30D6C0DE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6DA2D-014D-45E3-A867-0D5582F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AD16B-CDD6-4FEC-BA2B-11745E75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06109-CB3B-494B-8EE0-B82757C4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BB735-9841-4A17-BB5B-9270B0D0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885CF-9A95-4BD6-917A-1C511181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7B5EB-EEAE-42AD-905C-0EF920BA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0C25C-EA2A-4C66-9765-539BBAE8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E22B2-C79C-4355-8F0B-99FA38D6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F7338-A9F8-487E-82DB-4BD14286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768-3385-43CC-A657-ED00A49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DE7C6-DA47-4392-937F-BB82B88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88524-A60B-4A69-97D2-892B5419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71516-B3E6-42A4-8793-BA27BC4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A8102-B6B2-4262-A731-9ABA05D7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DF37D-0CBE-4E77-9690-99DC4281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3983E-AEDC-465B-AB99-9F57358C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7BDF1-648C-499B-B561-73BAF37A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5961B-690B-4114-82EE-36C0566B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A10E7-2B6B-435D-B1FD-2E9590AF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759E9-DE04-45CA-BF88-83EA6033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DA3F-719C-4890-BD56-FC37693AAB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61F3-6DA0-435C-961B-CBB67B541DC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E27A-17B6-465F-AD69-A7FCB67738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927-ACED-4C9D-93B1-D60A530D68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03C4-F896-4FBD-A0BF-AAE1784FCFEB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0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E341708B-EE77-45DB-8883-06E3151B6783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14:15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EFE-980F-4BD3-94F7-B1DAB4429AEA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A11B-A746-4BF4-ACBE-91530C1932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837A-BA5C-40F6-BECF-1FA0AFA42D0B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34569A77-E4BA-4508-BAE8-CAA9C4F1102F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4: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8606-A142-4DF9-B234-AC15A33F1557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3E6-0E13-4295-A57C-2322680DE7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B137-4C6D-4ECD-9A2B-E2DCEA8A9E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BB0-9DAF-4DC6-BCB4-306B1FE0F5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B159-84D0-40A5-9F14-213C254CE774}" type="slidenum">
              <a:rPr b="1" lang="en-US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009dd9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9D2-E51C-4AA1-A171-AB41742D3F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Primernie_rabochie_progra.htm" TargetMode="External"/><Relationship Id="rId3" Type="http://schemas.openxmlformats.org/officeDocument/2006/relationships/hyperlink" Target="https://edsoo.ru/Primernie_rabochie_progra.htm" TargetMode="External"/><Relationship Id="rId4" Type="http://schemas.openxmlformats.org/officeDocument/2006/relationships/hyperlink" Target="https://edsoo.ru/Primernie_rabochie_progra.htm" TargetMode="External"/><Relationship Id="rId5" Type="http://schemas.openxmlformats.org/officeDocument/2006/relationships/hyperlink" Target="https://fgosreestr.ru/" TargetMode="External"/><Relationship Id="rId6" Type="http://schemas.openxmlformats.org/officeDocument/2006/relationships/hyperlink" Target="https://fgosreestr.ru/" TargetMode="External"/><Relationship Id="rId7" Type="http://schemas.openxmlformats.org/officeDocument/2006/relationships/hyperlink" Target="https://edsoo.ru/constructor/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одзаголовок 10"/>
          <p:cNvSpPr/>
          <p:nvPr/>
        </p:nvSpPr>
        <p:spPr>
          <a:xfrm>
            <a:off x="0" y="213372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ОРГАНИЗАЦИЯ СОПРОВОЖДЕНИЯ УЧИТЕЛЕЙ В ПРОЦЕССЕ РЕАЛИЗАЦИИ ОБНОВЛЕННЫХ ФГОС НАЧАЛЬНОГО ОБЩЕГО ОБРАЗОВАНИЯ И               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Прямоугольник 16"/>
          <p:cNvSpPr/>
          <p:nvPr/>
        </p:nvSpPr>
        <p:spPr>
          <a:xfrm>
            <a:off x="4249800" y="634536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202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1619280" y="5445000"/>
            <a:ext cx="640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Сапегина Светлана Юрьевна                                                  ведущий специалист Управление образования Администрации Талиц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6" name="Picture 2" descr="C:\Users\MalenkovaEV.EDU1\Desktop\Картинки\flag_rossiya_simvolika_lenty_trikolor_99276_2560x1600.jpg"/>
          <p:cNvPicPr/>
          <p:nvPr/>
        </p:nvPicPr>
        <p:blipFill>
          <a:blip r:embed="rId1"/>
          <a:stretch/>
        </p:blipFill>
        <p:spPr>
          <a:xfrm>
            <a:off x="109440" y="262080"/>
            <a:ext cx="3492720" cy="161604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80964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Рисунок 5" descr=""/>
          <p:cNvPicPr/>
          <p:nvPr/>
        </p:nvPicPr>
        <p:blipFill>
          <a:blip r:embed="rId1"/>
          <a:stretch/>
        </p:blipFill>
        <p:spPr>
          <a:xfrm>
            <a:off x="252360" y="44280"/>
            <a:ext cx="720720" cy="10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507080" cy="11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5964"/>
                </a:solidFill>
                <a:latin typeface="Calibri"/>
              </a:rPr>
              <a:t>ПОЗДРАВЛЯЕМ ВАС С НАЧАЛОМ НОВОГО УЧЕБНОГО ГОД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76000" y="104760"/>
            <a:ext cx="728964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рганизационно-подготовительные мероприят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курсовой подготовки по внедрению обновленных ФГОС НОО и ФГОС ООО для педагогических работни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ование цикла мероприятий ( практических групповых занятий, индивидуальных консультаций и др.) по работе с порталом Единое содержание общего образования (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для информирования педагогов о нормативных документах и освоении конструктора рабочих программ с целью подготовки рабочих програм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педагогов, реализующих обновленные ФГОС НОО и ФГОС ООО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молодых педагогов, которым предстоит начать работу по обновленным ФГОС НОО и ФГОС ООО с 01.09.2022 год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формационн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зменениях норматив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курсах повышения квалификации по вопросам реализации ФГОС НОО и ФГОС ООО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возможности получить консультативную поддержку на федеральном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организации внедрения обновленных ФГОС НОО и ФГОС ОО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постоянно действующих семинаров (в том числе в дистанционном режиме) по вопросам введения обновленных ФГОС НОО и ФГОС ОО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региональных, муниципальных научно-практических конференций, педагогических чтений, вебинаров по проблемам введения обновленных ФГОС НОО и ФГОС О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мероприятий (вебинары, практические групповые занятия, индивидуальные консультации и др.) по работе с порталом Единое содержание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с целью поддержки педагогов, которые испытывают затруднения по освоению конструктора рабочих програм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и анализ уроков учителей, работающих по обновленным ФГОС НОО и ФГОС ООО с целью оказания методической поддержки и определения профессиональных затрудн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взаимопосещения уроков учителями, работающими по обновленным ФГОС НОО и ФГОС ООО, в рамках одного методического направления и между различными методическими направл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в формировании и развитии системы наставничества для оказания помощи и профессионального роста молодых педагогов, работающих по обновленным ФГОС НОО и ФГОС ООО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Ы ДЛЯ ОБСУЖ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оценочной деятельности в образовательной организации в связи с внедрением обновленных ФГОС НОО и ФНОС ООО. Развитие внутренней системы оценки качества образования (ВСОКО)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требований к предметным результатам в рамках реализации обновленных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спользование электронных средств обучения и дистанционных технологий для повышения качества образовательной деятельности в рамках внедрения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тодический инструментарий учителя-предметника: подборка методических материалов, электронных ресурсов и нормативных документов для организации образовательной деятельности по обновленным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требования ФГОС НОО и ФГОС СОО к психолого-педагогическому сопровождению образовательной деятельности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формы занятий внеурочной деятельности в рамках внедрения ФГОС НОО и ФГОС ООО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готовности учителей к началу внедрения обновленных ФГОС НОО и ФГОС ООО: подготовка рабочих программ, оценочных материалов и др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образовательной деятельности в контексте внедрения обновленных ФГОС НОО и ФГОС ООО. Выявление профессиональных затруднений (дефицитов) в подготовке и проведении уро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тировка направлений и форм методического сопровождения учителей на основе результатов мониторинг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рабочих программ учебных предме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планов-конспектов (технологических карт) уроков (внеурочных занятий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классных журнал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ные рабочие программы по предметам обязательной части учебного плана доступны педагогам посредством портала Единого содержания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edsoo.ru/Primernie_rabochie_progra.h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а также реестра примерных основных общеобразовательных программ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https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fgosreestr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ртале Единого содержания общего образования действует конструктор рабочих программ – удобный бесплатный онлайн-сервис для индивидуализации примерных рабочих программ по учебным предметам: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https://edsoo.ru/constructo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мощь учителю разработаны и размещены в свободном доступе методические видеоуроки для педагогов, разработанные в соответствии с обновленными ФГОС начального и основного общего образования: https://edsoo.ru/Metodicheskie_videouroki.htm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ы в свободном доступе учебные пособия, посвященные актуальным вопросам обновления предметного содержания по основным предметным областям ФГОС НОО и ООО: https://edsoo.ru/Metodicheskie_posobiya_i_v.htm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ую консультативную помощь по вопросам реализации обновленных ФГОС НОО и ООО учитель и руководитель образовательной организации может получить, обратившись к ресурсу «Единое содержание общего образования» по ссылке: https://edsoo.ru/Goryachaya_liniya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совет66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s://pedsovet66.irro.ru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дел «Обновленные ФГОС» размещены ответы на вопросы слушателей ДПП «Реализация требований обновленных ФГОС НОО, ФГОС ООО в работе учителя»,  «горячая линия» для консультаций педагогов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15:55:46Z</dcterms:created>
  <dc:creator>mm1</dc:creator>
  <dc:description/>
  <dc:language>en-US</dc:language>
  <cp:lastModifiedBy>User</cp:lastModifiedBy>
  <dcterms:modified xsi:type="dcterms:W3CDTF">2022-08-27T07:31:17Z</dcterms:modified>
  <cp:revision>539</cp:revision>
  <dc:subject/>
  <dc:title>Презентация PowerPoint</dc:title>
</cp:coreProperties>
</file>