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413-967F-4684-929F-7E145E55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732-E28B-40EC-81C6-2F68CCB0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C2020-49E6-44C5-A1FA-DD38A461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8EC8B-A21B-4931-A21A-533B178D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9104E-5378-4F6A-88DC-350071DE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BAECE-CC1D-41B1-926F-04A572EC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99219-63C2-4515-9211-057600C7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A4877-11B1-42C8-9C2E-EF4E1980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CA5E9-2A58-45C7-8C7A-F970664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870AE-2B47-492B-99EF-AF6F8705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F52C2-274B-4C6E-AD90-A13F179B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18CA61-44D4-4027-922D-FAC77C61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787-61B7-491B-9D99-4D7B44F4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9E475D-FB28-4065-B4FA-9D5E1065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E5D47B-363D-4665-8D67-33E5CE1D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BE3387-FD53-448C-B1FC-634348DD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ACF2AD-3BE4-4C5C-A10B-C75C46CE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8056A3-64DD-4DB5-8EC0-328028AD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2BBAFF-EB24-4668-B68F-F1F75DF6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E72DBD-BA5D-4BF9-97A0-49226612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638097-FC59-423D-BE2E-36D02514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67934B-DFA8-4A55-98AB-8965C549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FEA0FD-DF04-4E85-BDC0-795FB7AF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430-A08B-406E-AE37-BEF0F8ED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B7DCFF-CFAE-41CD-80CA-17F5731E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D60BE-0711-4119-9D33-D65DAB70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FA0D3-6968-4A8F-91F9-CB079783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BBCEA-5D04-4E91-BB09-DA1EBF44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7F006-4A51-4A3D-AF7E-DA6128BE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3A0A3-8BDA-45B8-B403-3293F5BD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FFD76-DB9C-41FC-89E5-2F6279B2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7C9B0-C38A-429F-8C83-658A9233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B25B0-6CC4-4322-903D-C6B38365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83F7D-15D4-4176-8773-90A67BA4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B39B-4B99-4EC3-BE24-B877352F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7ADD7-F570-46D0-B50F-C8FBF065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DAA4C-08E8-477D-8964-2E528665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3D975-AD9B-470E-B530-1CBE647D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A50C7-60C9-437C-97E9-D5D6AF55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7A4F8-1F6D-4E11-A760-A8F976E2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06BEB-5510-48BB-AAB5-429888EC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472AA-ED82-469B-82E1-12B0DF0A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5241F-498B-4426-B0B9-74697711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1ED60-192F-4826-B817-C3555213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527BF-8D1C-4273-98C0-645E7588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6728-3C5A-476A-B646-5B946169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E342F-DC53-46C2-BD9D-33160ADC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766E0-A278-40CE-9EC3-A206272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C2219-9938-465A-82D6-0A2B3132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D0450-26B6-4645-9162-A0FF25D0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24D8F-1C7E-4761-828C-C8B24ABB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7EF9-7CFA-4613-BF81-AA20C9D7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3A08-295A-4F5A-881E-A173A8D5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7385-2860-4D19-8F6B-52132D0D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4129-0BAA-4BF2-A95F-81BD8B81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6B78-35D6-474B-B912-D58C6163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D5C-1D89-48B4-A42F-C5691229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59B8-BEF3-4610-BEA0-A12986AB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0CD3-7863-4E80-B706-57109BBA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5B40-59A9-48C2-A96D-0B010156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9C50-F30D-43B8-A8FC-E577A381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D585-AE7B-43BD-8334-EEFB2063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BE5D-4C84-4379-8C62-799269C6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589A6-E626-43F5-9046-FDBC6A34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AEC6-2E31-41A9-81A7-827153C1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8653-D9DA-47ED-B892-84AED7DE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D95D-F7BB-4026-9DDA-3354DCD4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6A2-BED0-4F8A-A2FD-4ACC6601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3755-3259-46E5-8052-FCD7F9C4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A723-09E8-415D-AFAF-81ACC1C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1D47-53BD-4D82-8B60-6663AB4B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C083-5F39-437F-94B9-873BD88E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1EEF-F366-41AC-8435-B3022CCB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8026-A40D-4348-A557-EE9E46A2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A40A-747B-42A1-AB76-E3D7C2EB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29209-35CA-4198-B28D-561786CF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125FB-858B-4FEA-9501-4F9F2CC2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5928A-E0A0-4EAF-8015-F4AA7495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707-082F-4111-BDAC-3C1712DF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829C6-C71F-47F6-84E9-EC02B535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97E82-F4A1-476F-936B-46D12689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BF660-EBBE-4186-BC1C-44088C1F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B25E4-8029-4EDA-828C-26EB234B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92A94-A3C4-4CF0-A196-68F95BC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8EE78-9D6F-4660-BB36-1E4DBECC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C216D-0E81-47B8-9D3A-5252CC42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2EA08-F7FF-4F9C-9723-FD856CA6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8BBB1-33D9-4232-B01F-96D57D01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9C7AC-99AA-45AF-B500-9F4D12B4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450-BD83-4A58-B3D7-A2B464E3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34969-63F2-4BBE-831A-AA715A62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60614-4776-45E1-B82F-0366611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C94D7-48C3-4DFD-9924-8DF36049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E049DB-E68E-4956-A43F-DE3ACE11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DA2B9-9B2C-4EE5-99D8-00B3B072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6F1E3-0C14-4902-93FF-3964999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2CD9A-899F-4CB6-9528-38D27BC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99EB4-A8E0-4D85-9636-F011D8F1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79B3D-F05A-4E82-99D6-2D0525E8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0D7E2-32F2-46FF-901C-92F8013C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F4B-ECF4-4A7B-9120-00834B01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CE1BC-21E0-4129-B7D3-22CDF2A6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84E10-159E-4D46-BFA9-2160EEB5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C50351-1524-467D-913F-9B085DB3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0A83F-54D5-405F-A5DF-25D49DFA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8DED5-03F8-479C-8C05-812B15F0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C4529-9050-491B-BB7B-67BDFFBE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B8986-87C3-438E-955F-E9976CCC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34186-262D-4613-9687-96975992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F12AA-527E-4FD0-A9CB-299FFE1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CE1CA-CF52-4025-A6AA-F21F39C1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90C-BD5B-421A-ABF1-35381F31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26521-1299-4B72-B9B1-A5AB47E0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B3F9F-4601-4244-B8BB-2378A91F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B4E82-ABD6-42DB-928B-C2A7D5C1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7763A-835B-4799-AE87-AF758987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7E34C-C0C3-4923-8AE0-B5F98E2D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BA6A3-4981-426C-B38E-F4904EAF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0849C-2FBF-42A1-A464-18382315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D3F25-2DB0-464A-A1F4-1B42BA4D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D92E0-E60F-48BE-9F97-F135CC42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FD2E4-1B30-4F4B-B663-84C29791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7BC-6417-4C48-9FE2-92C24183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DDC84-CFFC-455B-BB52-B09FE5A6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7F524-4177-47BB-8A13-DA638BA2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5D836-54B0-462F-8C63-2AD680D3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E518C-2A2B-44F9-BD98-D111C99C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F6C0F-17D6-4300-A4BB-BEAFD70C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11DEC-E30E-4908-A1C1-CE834852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E298C-5040-4743-84DB-E0BD11A2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88607-FF46-4119-8BC1-F2498F28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CDA88-B021-47D4-8C5C-E87BCB0E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121BF-E47A-4B5C-BFA2-6B4B0B3F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6B0-9E09-4288-9663-818F8C6A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4B9C8-863A-4185-A131-14BACAD6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3F8D4-C678-4B25-A6C1-7069049B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F9ECD-E951-4A64-AF18-3BDEABCF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A3F39-F1D0-4609-8A4B-6A61B2E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444C7-9565-4D71-B70B-97B2A744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DD2D4-05EE-48AD-858A-C2D594C2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F701A-BA4F-4560-8144-CAF6A25A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87A34-1E23-4DB0-8B49-F9D37440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8E9B5-4289-4B5C-81F0-EBB8DF44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2B79B-965A-4D75-8575-574B9EDC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FC7F-E438-4D81-A912-745CBB3C67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AA5F-F55E-4171-85D2-FD76ED057DA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6AFB-A2CF-4D25-94D3-3841566C69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5810-9318-4204-9752-94DBED3E61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0C88-2191-45F9-BBD3-0FDF2DA9867C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29.07.26</a:t>
            </a:fld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fld id="{D8FF02B3-C068-41C8-9CEB-ABFDBBB200AA}" type="datetime10">
              <a:rPr b="0" lang="ru-RU" sz="2000" spc="-1" strike="noStrike">
                <a:solidFill>
                  <a:srgbClr val="ffffff"/>
                </a:solidFill>
                <a:latin typeface="Calibri"/>
              </a:rPr>
              <a:t>15:45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6ED7-3E80-4D8A-AFA0-0A0213A2BE3B}" type="slidenum">
              <a:rPr b="1" lang="ru-RU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A78F-E4F8-4EB6-A28A-8B70F17CBB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C8C4-9B84-46FE-B684-8C855C706615}" type="datetime">
              <a:rPr b="0" lang="ru-RU" sz="1400" spc="-1" strike="noStrike">
                <a:solidFill>
                  <a:srgbClr val="4f271c"/>
                </a:solidFill>
                <a:latin typeface="Calibri"/>
              </a:rPr>
              <a:t>29.07.26</a:t>
            </a:fld>
            <a:r>
              <a:rPr b="0" lang="ru-RU" sz="1400" spc="-1" strike="noStrike">
                <a:solidFill>
                  <a:srgbClr val="4f271c"/>
                </a:solidFill>
                <a:latin typeface="Calibri"/>
              </a:rPr>
              <a:t> </a:t>
            </a:r>
            <a:fld id="{80C9B118-11CD-42C3-8D29-264898F2174E}" type="datetime10">
              <a:rPr b="0" lang="ru-RU" sz="1400" spc="-1" strike="noStrike">
                <a:solidFill>
                  <a:srgbClr val="4f271c"/>
                </a:solidFill>
                <a:latin typeface="Calibri"/>
              </a:rPr>
              <a:t>15:4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076C-B300-4D49-A09E-A5B909D01D93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0921-4CAA-424D-9010-031EBFAD68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FE47-F05A-4655-BE80-76A02DC339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BE7F-1312-4311-BACC-50C43DBD20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A519-D0C9-4BE1-947B-405E252460F1}" type="slidenum">
              <a:rPr b="1" lang="en-US" sz="1400" spc="-1" strike="noStrike">
                <a:solidFill>
                  <a:srgbClr val="4f27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009dd9"/>
            </a:solidFill>
            <a:miter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5795-14AD-428F-976D-3FDE70D21C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" TargetMode="External"/><Relationship Id="rId3" Type="http://schemas.openxmlformats.org/officeDocument/2006/relationships/hyperlink" Target="https://edsoo.ru/" TargetMode="Externa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edsoo.ru/Primernie_rabochie_progra.htm" TargetMode="External"/><Relationship Id="rId3" Type="http://schemas.openxmlformats.org/officeDocument/2006/relationships/hyperlink" Target="https://edsoo.ru/Primernie_rabochie_progra.htm" TargetMode="External"/><Relationship Id="rId4" Type="http://schemas.openxmlformats.org/officeDocument/2006/relationships/hyperlink" Target="https://edsoo.ru/Primernie_rabochie_progra.htm" TargetMode="External"/><Relationship Id="rId5" Type="http://schemas.openxmlformats.org/officeDocument/2006/relationships/hyperlink" Target="https://fgosreestr.ru/" TargetMode="External"/><Relationship Id="rId6" Type="http://schemas.openxmlformats.org/officeDocument/2006/relationships/hyperlink" Target="https://fgosreestr.ru/" TargetMode="External"/><Relationship Id="rId7" Type="http://schemas.openxmlformats.org/officeDocument/2006/relationships/hyperlink" Target="https://edsoo.ru/constructor/" TargetMode="Externa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Подзаголовок 10"/>
          <p:cNvSpPr/>
          <p:nvPr/>
        </p:nvSpPr>
        <p:spPr>
          <a:xfrm>
            <a:off x="0" y="2133720"/>
            <a:ext cx="91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ОРГАНИЗАЦИЯ СОПРОВОЖДЕНИЯ УЧИТЕЛЕЙ В ПРОЦЕССЕ РЕАЛИЗАЦИИ ОБНОВЛЕННЫХ ФГОС НАЧАЛЬНОГО ОБЩЕГО ОБРАЗОВАНИЯ И               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Прямоугольник 16"/>
          <p:cNvSpPr/>
          <p:nvPr/>
        </p:nvSpPr>
        <p:spPr>
          <a:xfrm>
            <a:off x="4249800" y="634536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202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1619280" y="5445000"/>
            <a:ext cx="6405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Bookman Old Style"/>
                <a:ea typeface="Arial"/>
              </a:rPr>
              <a:t>Сапегина Светлана Юрьевна                                                  ведущий специалист Управление образования Администрации Талиц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6" name="Picture 2" descr="C:\Users\MalenkovaEV.EDU1\Desktop\Картинки\flag_rossiya_simvolika_lenty_trikolor_99276_2560x1600.jpg"/>
          <p:cNvPicPr/>
          <p:nvPr/>
        </p:nvPicPr>
        <p:blipFill>
          <a:blip r:embed="rId1"/>
          <a:stretch/>
        </p:blipFill>
        <p:spPr>
          <a:xfrm>
            <a:off x="109440" y="262080"/>
            <a:ext cx="3492720" cy="161604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8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80964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Рисунок 5" descr=""/>
          <p:cNvPicPr/>
          <p:nvPr/>
        </p:nvPicPr>
        <p:blipFill>
          <a:blip r:embed="rId1"/>
          <a:stretch/>
        </p:blipFill>
        <p:spPr>
          <a:xfrm>
            <a:off x="252360" y="44280"/>
            <a:ext cx="720720" cy="104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507080" cy="11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Управление образования Администрации Талицкого городского округ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5964"/>
                </a:solidFill>
                <a:latin typeface="Calibri"/>
              </a:rPr>
              <a:t>ПОЗДРАВЛЯЕМ ВАС С НАЧАЛОМ НОВОГО УЧЕБНОГО ГОД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76000" y="104760"/>
            <a:ext cx="728964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рганизационно-подготовительные мероприят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курсовой подготовки по внедрению обновленных ФГОС НОО и ФГОС ООО для педагогических работни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ирование цикла мероприятий ( практических групповых занятий, индивидуальных консультаций и др.) по работе с порталом Единое содержание общего образования (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для информирования педагогов о нормативных документах и освоении конструктора рабочих программ с целью подготовки рабочих программ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педагогов, реализующих обновленные ФГОС НОО и ФГОС ООО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лана работы по сопровождению молодых педагогов, которым предстоит начать работу по обновленным ФГОС НОО и ФГОС ООО с 01.09.2022 год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нформационн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зменениях норматив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курсах повышения квалификации по вопросам реализации ФГОС НОО и ФГОС ООО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 возможности получить консультативную поддержку на федеральном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организации внедрения обновленных ФГОС НОО и ФГОС ОО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постоянно действующих семинаров (в том числе в дистанционном режиме) по вопросам введения обновленных ФГОС НОО и ФГОС ОО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 проведении региональных, муниципальных научно-практических конференций, педагогических чтений, вебинаров по проблемам введения обновленных ФГОС НОО и ФГОС О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61360" indent="-2613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мероприятий (вебинары, практические групповые занятия, индивидуальные консультации и др.) по работе с порталом Единое содержание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://edsoo.ru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с целью поддержки педагогов, которые испытывают затруднения по освоению конструктора рабочих програм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щение и анализ уроков учителей, работающих по обновленным ФГОС НОО и ФГОС ООО с целью оказания методической поддержки и определения профессиональных затрудн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взаимопосещения уроков учителями, работающими по обновленным ФГОС НОО и ФГОС ООО, в рамках одного методического направления и между различными методическими направл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в формировании и развитии системы наставничества для оказания помощи и профессионального роста молодых педагогов, работающих по обновленным ФГОС НОО и ФГОС ООО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ое сопровожде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Ы ДЛЯ ОБСУЖД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оценочной деятельности в образовательной организации в связи с внедрением обновленных ФГОС НОО и ФНОС ООО. Развитие внутренней системы оценки качества образования (ВСОКО)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зменение требований к предметным результатам в рамках реализации обновленных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спользование электронных средств обучения и дистанционных технологий для повышения качества образовательной деятельности в рамках внедрения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етодический инструментарий учителя-предметника: подборка методических материалов, электронных ресурсов и нормативных документов для организации образовательной деятельности по обновленным ФГОС НОО и ФГОС ООО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требования ФГОС НОО и ФГОС СОО к психолого-педагогическому сопровождению образовательной деятельности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ые формы занятий внеурочной деятельности в рамках внедрения ФГОС НОО и ФГОС ООО»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39640" y="1628280"/>
            <a:ext cx="8345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готовности учителей к началу внедрения обновленных ФГОС НОО и ФГОС ООО: подготовка рабочих программ, оценочных материалов и др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образовательной деятельности в контексте внедрения обновленных ФГОС НОО и ФГОС ООО. Выявление профессиональных затруднений (дефицитов) в подготовке и проведении урок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тировка направлений и форм методического сопровождения учителей на основе результатов мониторинг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налитиче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рабочих программ учебных предме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планов-конспектов (технологических карт) уроков (внеурочных занятий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нализ классных журнал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ные рабочие программы по предметам обязательной части учебного плана доступны педагогам посредством портала Единого содержания общего образования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https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edsoo.ru/Primernie_rabochie_progra.ht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, а также реестра примерных основных общеобразовательных программ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https://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fgosreestr.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ортале Единого содержания общего образования действует конструктор рабочих программ – удобный бесплатный онлайн-сервис для индивидуализации примерных рабочих программ по учебным предметам: 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https://edsoo.ru/constructo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омощь учителю разработаны и размещены в свободном доступе методические видеоуроки для педагогов, разработанные в соответствии с обновленными ФГОС начального и основного общего образования: https://edsoo.ru/Metodicheskie_videouroki.htm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Рисунок 5" descr=""/>
          <p:cNvPicPr/>
          <p:nvPr/>
        </p:nvPicPr>
        <p:blipFill>
          <a:blip r:embed="rId1"/>
          <a:stretch/>
        </p:blipFill>
        <p:spPr>
          <a:xfrm>
            <a:off x="539640" y="104760"/>
            <a:ext cx="720720" cy="10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ические ресурс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щены в свободном доступе учебные пособия, посвященные актуальным вопросам обновления предметного содержания по основным предметным областям ФГОС НОО и ООО: https://edsoo.ru/Metodicheskie_posobiya_i_v.htm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ую консультативную помощь по вопросам реализации обновленных ФГОС НОО и ООО учитель и руководитель образовательной организации может получить, обратившись к ресурсу «Единое содержание общего образования» по ссылке: https://edsoo.ru/Goryachaya_liniya.ht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совет66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s://pedsovet66.irro.ru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дел «Обновленные ФГОС» размещены ответы на вопросы слушателей ДПП «Реализация требований обновленных ФГОС НОО, ФГОС ООО в работе учителя»,  «горячая линия» для консультаций педагогов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15:55:46Z</dcterms:created>
  <dc:creator>mm1</dc:creator>
  <dc:description/>
  <dc:language>en-US</dc:language>
  <cp:lastModifiedBy>User</cp:lastModifiedBy>
  <dcterms:modified xsi:type="dcterms:W3CDTF">2022-08-27T07:31:17Z</dcterms:modified>
  <cp:revision>539</cp:revision>
  <dc:subject/>
  <dc:title>Презентация PowerPoint</dc:title>
</cp:coreProperties>
</file>